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EF36-74BD-4080-BC63-E960BBC8A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1B81-C913-4C13-A3BC-414FB19F8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A680-3C4E-4817-B953-A7EC649D2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92D9-0828-45AD-8A16-AE37BD854F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3C0A-04DD-4E08-A1BB-6C7D6CC40E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1853-7D07-4398-ADE5-6DA90B776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8EDC-C322-439C-8E03-B404B33FA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61B8-C41B-4A89-BC05-943A4B274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0BB0-CC73-44A9-B471-156400318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9C72-A1B2-4BDB-B648-66C9D087C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257B-350D-49E0-B1C2-A9027038F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1847-17C2-47F0-9201-E7280D24F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02FF-7F46-415A-ABBD-0F6C90A5D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11430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V="1">
            <a:off x="8915400" y="5181480"/>
            <a:ext cx="0" cy="1447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10280" y="6629400"/>
            <a:ext cx="19051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228600"/>
            <a:ext cx="19051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228600" y="228600"/>
            <a:ext cx="0" cy="1447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DRAFT%20UPDATE%20to%20DCMI%20Namespace%20Policy.htm" TargetMode="External"/><Relationship Id="rId2" Type="http://schemas.openxmlformats.org/officeDocument/2006/relationships/hyperlink" Target="file:///DRAFT%20UPDATE%20to%20DCMI%20Namespace%20Policy.htm" TargetMode="External"/><Relationship Id="rId3" Type="http://schemas.openxmlformats.org/officeDocument/2006/relationships/hyperlink" Target="file:///DRAFT%20UPDATE%20to%20DCMI%20Namespace%20Policy.htm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C Architecture WG mee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day Sept 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t 1: 15.30 - 17.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t 2: 17.30 - 19.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tion: Seminar Room 4.1.E01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ML encoding guide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of relevant W3C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of DC RDF Taskfor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CMI Term Decision Tre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MI Term Decision Tre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DC using RDF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ading towards new DCMI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placing the current Simple DC in RDF Recommendation and Qualified DC in RDF Proposed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pping from DCMI Abstract Model to RDF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fore can use current and future RDF syntaxs (XML, N3, etc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MI abstrac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ade up o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63560" indent="-28584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bout one, and only one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63560" indent="-28584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ally, the URI of th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ing described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source UR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ade up o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63560" indent="-28584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operty UR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hat identifie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opert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63560" indent="-28584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alue URI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dentifie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alu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/or one or more representations of th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alue representa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2400" y="182160"/>
            <a:ext cx="8031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lue str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represen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y take the form of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ich val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lated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simple, human-readable string that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is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y have an associate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 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is an ISO language tag (e.g. en-G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sc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n be ‘qualified’ by using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encoding sche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ocabulary encoding 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ed to indicate the class of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from LC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yntax encoding 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ed to indicate how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structu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date structured according to the W3CDTF rules (“2004-10-12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s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l-world metadata applications tend to be based on loosely grouped sets of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where the describe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typically related in some w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n in the abstract model a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 s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,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 s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ight compris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both a painting and the art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iew of the y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ised "DCMI Namespace Policy"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ising "Guidelines for encoding DC in XML“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 of relevant W3C activities (GRDDL and RDF in XHTML) (*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kplan for next y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escription se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instantiated, for the purposes of exchange between software applications, in the form of metadat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co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forms to one of the DCMI encoding guidelines (XHTML meta tags, XML, RDF/XML, etc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4952880"/>
          <a:ext cx="99036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952880"/>
                    <a:ext cx="990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019920" y="4876920"/>
          <a:ext cx="9903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876920"/>
                    <a:ext cx="990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886200" y="4952880"/>
            <a:ext cx="914400" cy="10670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775040"/>
            <a:ext cx="3276720" cy="711360"/>
          </a:xfrm>
          <a:custGeom>
            <a:avLst/>
            <a:gdLst/>
            <a:ahLst/>
            <a:rect l="l" t="t" r="r" b="b"/>
            <a:pathLst>
              <a:path w="2064" h="448">
                <a:moveTo>
                  <a:pt x="0" y="448"/>
                </a:moveTo>
                <a:cubicBezTo>
                  <a:pt x="260" y="240"/>
                  <a:pt x="520" y="32"/>
                  <a:pt x="864" y="16"/>
                </a:cubicBezTo>
                <a:cubicBezTo>
                  <a:pt x="1208" y="0"/>
                  <a:pt x="1636" y="176"/>
                  <a:pt x="2064" y="352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495680"/>
            <a:ext cx="838080" cy="990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dc:titl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/dc:titl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dc:creato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dy po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/dc:creato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0840" y="5942160"/>
            <a:ext cx="1128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657600" y="5486040"/>
            <a:ext cx="380880" cy="609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0880" y="990720"/>
            <a:ext cx="7772400" cy="5410080"/>
            <a:chOff x="380880" y="990720"/>
            <a:chExt cx="7772400" cy="5410080"/>
          </a:xfrm>
        </p:grpSpPr>
        <p:sp>
          <p:nvSpPr>
            <p:cNvPr id="95" name=""/>
            <p:cNvSpPr/>
            <p:nvPr/>
          </p:nvSpPr>
          <p:spPr>
            <a:xfrm>
              <a:off x="380880" y="990720"/>
              <a:ext cx="7772400" cy="5410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40" y="1060560"/>
              <a:ext cx="5042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cord (encoded as XHTML, XML or RDF/XM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9480" y="1447920"/>
            <a:ext cx="7467840" cy="4876200"/>
            <a:chOff x="609480" y="1447920"/>
            <a:chExt cx="7467840" cy="4876200"/>
          </a:xfrm>
        </p:grpSpPr>
        <p:sp>
          <p:nvSpPr>
            <p:cNvPr id="98" name=""/>
            <p:cNvSpPr/>
            <p:nvPr/>
          </p:nvSpPr>
          <p:spPr>
            <a:xfrm>
              <a:off x="609480" y="1447920"/>
              <a:ext cx="7467840" cy="4876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6240" y="1525320"/>
              <a:ext cx="1771560" cy="339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scription 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066680" y="2133720"/>
            <a:ext cx="6935760" cy="41130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057400"/>
            <a:ext cx="6933960" cy="41148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981080"/>
            <a:ext cx="6934320" cy="41148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1905120"/>
            <a:ext cx="6935760" cy="4114440"/>
            <a:chOff x="838080" y="1905120"/>
            <a:chExt cx="6935760" cy="4114440"/>
          </a:xfrm>
        </p:grpSpPr>
        <p:sp>
          <p:nvSpPr>
            <p:cNvPr id="104" name=""/>
            <p:cNvSpPr/>
            <p:nvPr/>
          </p:nvSpPr>
          <p:spPr>
            <a:xfrm>
              <a:off x="838080" y="1905120"/>
              <a:ext cx="6935760" cy="41144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56520" y="1984320"/>
              <a:ext cx="39967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scription (about a resource (URI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371600" y="2590920"/>
            <a:ext cx="6324480" cy="335268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514600"/>
            <a:ext cx="6324840" cy="335268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438280"/>
            <a:ext cx="6324480" cy="335304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2362320"/>
            <a:ext cx="6324480" cy="3352320"/>
            <a:chOff x="1143000" y="2362320"/>
            <a:chExt cx="6324480" cy="3352320"/>
          </a:xfrm>
        </p:grpSpPr>
        <p:sp>
          <p:nvSpPr>
            <p:cNvPr id="110" name=""/>
            <p:cNvSpPr/>
            <p:nvPr/>
          </p:nvSpPr>
          <p:spPr>
            <a:xfrm>
              <a:off x="1143000" y="2362320"/>
              <a:ext cx="6324480" cy="3352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2443680"/>
              <a:ext cx="1283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47920" y="2819520"/>
            <a:ext cx="1904760" cy="457200"/>
            <a:chOff x="1447920" y="2819520"/>
            <a:chExt cx="1904760" cy="457200"/>
          </a:xfrm>
        </p:grpSpPr>
        <p:sp>
          <p:nvSpPr>
            <p:cNvPr id="113" name=""/>
            <p:cNvSpPr/>
            <p:nvPr/>
          </p:nvSpPr>
          <p:spPr>
            <a:xfrm>
              <a:off x="1447920" y="2819520"/>
              <a:ext cx="190476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67800" y="2895480"/>
              <a:ext cx="17060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perty (UR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05320" y="2819520"/>
            <a:ext cx="3886200" cy="2818800"/>
            <a:chOff x="3505320" y="2819520"/>
            <a:chExt cx="3886200" cy="2818800"/>
          </a:xfrm>
        </p:grpSpPr>
        <p:sp>
          <p:nvSpPr>
            <p:cNvPr id="116" name=""/>
            <p:cNvSpPr/>
            <p:nvPr/>
          </p:nvSpPr>
          <p:spPr>
            <a:xfrm>
              <a:off x="3505320" y="2819520"/>
              <a:ext cx="3886200" cy="2818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5760" y="2901960"/>
              <a:ext cx="1343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e (UR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38480" y="3505320"/>
            <a:ext cx="3276720" cy="20574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3429000"/>
            <a:ext cx="3276360" cy="20574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3352680"/>
            <a:ext cx="3276720" cy="20574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809880" y="3276720"/>
            <a:ext cx="3276720" cy="2057400"/>
            <a:chOff x="3809880" y="3276720"/>
            <a:chExt cx="3276720" cy="2057400"/>
          </a:xfrm>
        </p:grpSpPr>
        <p:sp>
          <p:nvSpPr>
            <p:cNvPr id="122" name=""/>
            <p:cNvSpPr/>
            <p:nvPr/>
          </p:nvSpPr>
          <p:spPr>
            <a:xfrm>
              <a:off x="3809880" y="3276720"/>
              <a:ext cx="3276720" cy="20574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7200" y="3352680"/>
              <a:ext cx="17866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114800" y="3733920"/>
            <a:ext cx="2895480" cy="1523880"/>
            <a:chOff x="4114800" y="3733920"/>
            <a:chExt cx="2895480" cy="1523880"/>
          </a:xfrm>
        </p:grpSpPr>
        <p:grpSp>
          <p:nvGrpSpPr>
            <p:cNvPr id="125" name=""/>
            <p:cNvGrpSpPr/>
            <p:nvPr/>
          </p:nvGrpSpPr>
          <p:grpSpPr>
            <a:xfrm>
              <a:off x="4114800" y="3733920"/>
              <a:ext cx="2895480" cy="457200"/>
              <a:chOff x="4114800" y="3733920"/>
              <a:chExt cx="289548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4114800" y="3733920"/>
                <a:ext cx="2895480" cy="45720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77440" y="3810240"/>
                <a:ext cx="1446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lue str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4114800" y="4267080"/>
              <a:ext cx="2895480" cy="457200"/>
              <a:chOff x="4114800" y="4267080"/>
              <a:chExt cx="2895480" cy="457200"/>
            </a:xfrm>
          </p:grpSpPr>
          <p:sp>
            <p:nvSpPr>
              <p:cNvPr id="129" name=""/>
              <p:cNvSpPr/>
              <p:nvPr/>
            </p:nvSpPr>
            <p:spPr>
              <a:xfrm>
                <a:off x="4114800" y="4267080"/>
                <a:ext cx="2895480" cy="45720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90760" y="4343400"/>
                <a:ext cx="16038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Comic Sans MS"/>
                  </a:rPr>
                  <a:t>OR rich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114800" y="4800600"/>
              <a:ext cx="2895480" cy="457200"/>
              <a:chOff x="4114800" y="4800600"/>
              <a:chExt cx="2895480" cy="457200"/>
            </a:xfrm>
          </p:grpSpPr>
          <p:sp>
            <p:nvSpPr>
              <p:cNvPr id="132" name=""/>
              <p:cNvSpPr/>
              <p:nvPr/>
            </p:nvSpPr>
            <p:spPr>
              <a:xfrm>
                <a:off x="4114800" y="4800600"/>
                <a:ext cx="2895480" cy="45720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06600" y="4876920"/>
                <a:ext cx="25930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Comic Sans MS"/>
                  </a:rPr>
                  <a:t>OR related 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3169080" y="2362320"/>
            <a:ext cx="4304520" cy="609480"/>
            <a:chOff x="3169080" y="2362320"/>
            <a:chExt cx="4304520" cy="609480"/>
          </a:xfrm>
        </p:grpSpPr>
        <p:sp>
          <p:nvSpPr>
            <p:cNvPr id="135" name=""/>
            <p:cNvSpPr/>
            <p:nvPr/>
          </p:nvSpPr>
          <p:spPr>
            <a:xfrm>
              <a:off x="3169080" y="2362320"/>
              <a:ext cx="430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vocabulary encoding scheme (UR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920" y="2666880"/>
              <a:ext cx="38088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340280" y="3505320"/>
            <a:ext cx="2850840" cy="703800"/>
            <a:chOff x="1340280" y="3505320"/>
            <a:chExt cx="2850840" cy="703800"/>
          </a:xfrm>
        </p:grpSpPr>
        <p:sp>
          <p:nvSpPr>
            <p:cNvPr id="138" name=""/>
            <p:cNvSpPr/>
            <p:nvPr/>
          </p:nvSpPr>
          <p:spPr>
            <a:xfrm>
              <a:off x="1340280" y="3505320"/>
              <a:ext cx="213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yntax encoding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cheme (UR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809880"/>
              <a:ext cx="762120" cy="76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629360" y="4038480"/>
            <a:ext cx="2561760" cy="932400"/>
            <a:chOff x="1629360" y="4038480"/>
            <a:chExt cx="2561760" cy="932400"/>
          </a:xfrm>
        </p:grpSpPr>
        <p:sp>
          <p:nvSpPr>
            <p:cNvPr id="141" name=""/>
            <p:cNvSpPr/>
            <p:nvPr/>
          </p:nvSpPr>
          <p:spPr>
            <a:xfrm>
              <a:off x="1629360" y="4267080"/>
              <a:ext cx="157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anguage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e.g. en-G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048120" y="4038480"/>
              <a:ext cx="114300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8800" y="365760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65760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6576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20040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2004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411480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3352680"/>
            <a:ext cx="1218960" cy="3049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590920" y="3962520"/>
            <a:ext cx="1218960" cy="30456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40480" y="9399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743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: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743200"/>
            <a:ext cx="2133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ocabularyEncodingSchem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2895480"/>
            <a:ext cx="533520" cy="3049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71080" y="939960"/>
            <a:ext cx="21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114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stat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380988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7339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38098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37339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8098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3276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33526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32767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3526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2670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505320"/>
            <a:ext cx="1219320" cy="30456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286000" y="4114080"/>
            <a:ext cx="1219320" cy="3049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895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: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895480"/>
            <a:ext cx="21337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ocabularyEncodingSchem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048120"/>
            <a:ext cx="533520" cy="30456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657600"/>
            <a:ext cx="4444920" cy="609480"/>
          </a:xfrm>
          <a:custGeom>
            <a:avLst/>
            <a:gdLst/>
            <a:ahLst/>
            <a:rect l="l" t="t" r="r" b="b"/>
            <a:pathLst>
              <a:path w="2800" h="576">
                <a:moveTo>
                  <a:pt x="144" y="136"/>
                </a:moveTo>
                <a:cubicBezTo>
                  <a:pt x="1016" y="68"/>
                  <a:pt x="1888" y="0"/>
                  <a:pt x="2304" y="40"/>
                </a:cubicBezTo>
                <a:cubicBezTo>
                  <a:pt x="2720" y="80"/>
                  <a:pt x="2800" y="288"/>
                  <a:pt x="2640" y="376"/>
                </a:cubicBezTo>
                <a:cubicBezTo>
                  <a:pt x="2480" y="464"/>
                  <a:pt x="1752" y="576"/>
                  <a:pt x="1344" y="568"/>
                </a:cubicBezTo>
                <a:cubicBezTo>
                  <a:pt x="936" y="560"/>
                  <a:pt x="384" y="400"/>
                  <a:pt x="192" y="328"/>
                </a:cubicBezTo>
                <a:cubicBezTo>
                  <a:pt x="0" y="256"/>
                  <a:pt x="96" y="196"/>
                  <a:pt x="192" y="136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0760" y="4038480"/>
            <a:ext cx="2959200" cy="571680"/>
          </a:xfrm>
          <a:custGeom>
            <a:avLst/>
            <a:gdLst/>
            <a:ahLst/>
            <a:rect l="l" t="t" r="r" b="b"/>
            <a:pathLst>
              <a:path w="1864" h="360">
                <a:moveTo>
                  <a:pt x="104" y="0"/>
                </a:moveTo>
                <a:cubicBezTo>
                  <a:pt x="720" y="44"/>
                  <a:pt x="1336" y="88"/>
                  <a:pt x="1592" y="144"/>
                </a:cubicBezTo>
                <a:cubicBezTo>
                  <a:pt x="1848" y="200"/>
                  <a:pt x="1864" y="312"/>
                  <a:pt x="1640" y="336"/>
                </a:cubicBezTo>
                <a:cubicBezTo>
                  <a:pt x="1416" y="360"/>
                  <a:pt x="496" y="344"/>
                  <a:pt x="248" y="288"/>
                </a:cubicBezTo>
                <a:cubicBezTo>
                  <a:pt x="0" y="232"/>
                  <a:pt x="76" y="116"/>
                  <a:pt x="152" y="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440" y="2768760"/>
            <a:ext cx="5410080" cy="1028520"/>
          </a:xfrm>
          <a:custGeom>
            <a:avLst/>
            <a:gdLst/>
            <a:ahLst/>
            <a:rect l="l" t="t" r="r" b="b"/>
            <a:pathLst>
              <a:path w="3408" h="648">
                <a:moveTo>
                  <a:pt x="280" y="560"/>
                </a:moveTo>
                <a:cubicBezTo>
                  <a:pt x="756" y="360"/>
                  <a:pt x="1232" y="160"/>
                  <a:pt x="1720" y="80"/>
                </a:cubicBezTo>
                <a:cubicBezTo>
                  <a:pt x="2208" y="0"/>
                  <a:pt x="3008" y="0"/>
                  <a:pt x="3208" y="80"/>
                </a:cubicBezTo>
                <a:cubicBezTo>
                  <a:pt x="3408" y="160"/>
                  <a:pt x="3384" y="472"/>
                  <a:pt x="2920" y="560"/>
                </a:cubicBezTo>
                <a:cubicBezTo>
                  <a:pt x="2456" y="648"/>
                  <a:pt x="848" y="616"/>
                  <a:pt x="424" y="608"/>
                </a:cubicBezTo>
                <a:cubicBezTo>
                  <a:pt x="0" y="600"/>
                  <a:pt x="188" y="556"/>
                  <a:pt x="376" y="51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4572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stat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5909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stat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600200" y="3733920"/>
            <a:ext cx="10666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36576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733920"/>
            <a:ext cx="10670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6576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37339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7520" y="89388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cabulary encoding scheme 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32767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: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3276720"/>
            <a:ext cx="21333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ocabularyEncodingSchem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429000"/>
            <a:ext cx="533520" cy="3049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52480" y="3505320"/>
            <a:ext cx="10670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429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3505320"/>
            <a:ext cx="10666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34290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3505320"/>
            <a:ext cx="914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6200" y="89388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u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4480" y="893880"/>
            <a:ext cx="741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ue string – where propert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rdfs:Li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505320"/>
            <a:ext cx="10666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3429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505320"/>
            <a:ext cx="914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35268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76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33526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2767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3526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 string”^^rdfDatatyp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2320" y="893880"/>
            <a:ext cx="39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ch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66680" y="3200400"/>
            <a:ext cx="10670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20040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3124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3200400"/>
            <a:ext cx="2666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 string”^^syntaxEncodingSchem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9800" y="893880"/>
            <a:ext cx="57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x encoding scheme 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3880" y="3276720"/>
            <a:ext cx="10670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3200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276720"/>
            <a:ext cx="10666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3200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327672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@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1240" y="893880"/>
            <a:ext cx="45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ue str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ew of the y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19320" y="28954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esourc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8195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2895480"/>
            <a:ext cx="10666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value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8195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2895480"/>
            <a:ext cx="8384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7360" y="893880"/>
            <a:ext cx="38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ed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3200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429000"/>
            <a:ext cx="12193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733920" y="3200400"/>
            <a:ext cx="533160" cy="38088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33526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34290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propertyU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3809880"/>
            <a:ext cx="12193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657600" y="3199680"/>
            <a:ext cx="609480" cy="7621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80" y="164"/>
                  <a:pt x="160" y="88"/>
                  <a:pt x="288" y="48"/>
                </a:cubicBezTo>
                <a:cubicBezTo>
                  <a:pt x="416" y="8"/>
                  <a:pt x="592" y="4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37339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dfs: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38098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alue str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84400" y="2527200"/>
            <a:ext cx="4838760" cy="1943280"/>
          </a:xfrm>
          <a:custGeom>
            <a:avLst/>
            <a:gdLst/>
            <a:ahLst/>
            <a:rect l="l" t="t" r="r" b="b"/>
            <a:pathLst>
              <a:path w="3048" h="1224">
                <a:moveTo>
                  <a:pt x="376" y="40"/>
                </a:moveTo>
                <a:cubicBezTo>
                  <a:pt x="244" y="44"/>
                  <a:pt x="112" y="48"/>
                  <a:pt x="88" y="184"/>
                </a:cubicBezTo>
                <a:cubicBezTo>
                  <a:pt x="64" y="320"/>
                  <a:pt x="0" y="688"/>
                  <a:pt x="232" y="856"/>
                </a:cubicBezTo>
                <a:cubicBezTo>
                  <a:pt x="464" y="1024"/>
                  <a:pt x="1048" y="1160"/>
                  <a:pt x="1480" y="1192"/>
                </a:cubicBezTo>
                <a:cubicBezTo>
                  <a:pt x="1912" y="1224"/>
                  <a:pt x="2600" y="1152"/>
                  <a:pt x="2824" y="1048"/>
                </a:cubicBezTo>
                <a:cubicBezTo>
                  <a:pt x="3048" y="944"/>
                  <a:pt x="2928" y="664"/>
                  <a:pt x="2824" y="568"/>
                </a:cubicBezTo>
                <a:cubicBezTo>
                  <a:pt x="2720" y="472"/>
                  <a:pt x="2480" y="488"/>
                  <a:pt x="2200" y="472"/>
                </a:cubicBezTo>
                <a:cubicBezTo>
                  <a:pt x="1920" y="456"/>
                  <a:pt x="1368" y="504"/>
                  <a:pt x="1144" y="472"/>
                </a:cubicBezTo>
                <a:cubicBezTo>
                  <a:pt x="920" y="440"/>
                  <a:pt x="936" y="352"/>
                  <a:pt x="856" y="280"/>
                </a:cubicBezTo>
                <a:cubicBezTo>
                  <a:pt x="776" y="208"/>
                  <a:pt x="752" y="80"/>
                  <a:pt x="664" y="40"/>
                </a:cubicBezTo>
                <a:cubicBezTo>
                  <a:pt x="576" y="0"/>
                  <a:pt x="452" y="20"/>
                  <a:pt x="328" y="4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41911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related 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MI Term Decision T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s and r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main’ – the class of resources that a property can be used to describ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nge’ – the class of resources that are allowed as values of a proper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what are the domain and range of dc:crea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main = NonAgentResou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nge = Ag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king explicit what has been implicit until 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MI Term Decision T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sing DC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sing the language of the definitions to align them with the DCMI Abstract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dc:re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: A reference to a related resour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o: A related resou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main:  Resou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ge: Resou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note issue with use of ‘content of the resource’ in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C RDF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larification of the recommendations for encoding 'value strings' in DC RDF/XM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Guidelines for encoding DC metadata using the RDF Mo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C Property Domains and Rang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Proposed changes to DCMI property 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CMI Term Decision T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m decis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you know if something is usable in DC metadata descriptions or no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it been explicitly declared as an element, element refinement or encoding sche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it been assigned a unique UR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declaration available at that UR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answers are all ‘yes’, then the thing can be used in DC meta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rkplan for 200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rkplan - taskf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short document for RDF implementers, clarifying the resource vs. literal string value issue and providing advice on best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possible RDF encoding changes (in light of above issue), carry out impact analysis and make recommend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rkplan – tidying 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ise provision of a persistent URI for the latest version of our XML sche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ise revisions to the Guidelines for implementing Dublin Core in XML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ise revisions to the Namespace Policy for the Dublin Core Metadata Initiative (DCM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during 200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CMI Abstract Model document issued as a Recommen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reed persistent URIs for the latest version of our XML sch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veloped draft revised "DCMI Namespace Policy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osed changes to XML guide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t up task force to look at DC/RDF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rkplan – new stu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use of GRDDL as mechanism for transforming arbitrary DC/XML documents into RDF (DCMI AM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W3C developments for RDF in XHTML and revise current DC/XHTML guidelines as necess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model of ‘application profiles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ing Box/Period/Point in DCAM/RDF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sed DCMI namespace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sed Namespace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draft policy is available at:</a:t>
            </a:r>
            <a:br>
              <a:rPr sz="3200"/>
            </a:br>
            <a:r>
              <a:rPr b="0" lang="en-GB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www.ukoln.ac.uk/metadata/dcmi/namespace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-policy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w termi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ly to remove confusion with XML namesp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CMI namespace - A collection of DCMI term URIs where each term is assigned a URI that starts with the same 'base URI'. The 'base URI' is known as the DCMI namespace URI. (Note that a DCMI namespace is not the same as an 'XML namespace'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CMI namespace URI - The URI that identifies a DCMI name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ocabulary - A collection of terms (often as used in the context of an 'applic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file'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mespaces vs. vocabula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e that the grouping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 UR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DCMI namespa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rthogonal to the grouping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 UR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rouped into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DCMI namespac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order to ease the assignment of URIs to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to streamline their use in particular encoding syntax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r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rouped into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vocabulari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order to meet a functional nee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ever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quite clearly haven't done this in the case of the DC and DCTERMS namesp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ve kept two namespaces simply for historical reas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 suggest replicating all the current terms in the DC namespace into the DCTERMS namespace, using RDFS/OWL to explicitly declare equivalences as necess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0:03:29Z</dcterms:created>
  <dc:creator>Andy Powell</dc:creator>
  <dc:description/>
  <dc:language>en-US</dc:language>
  <cp:lastModifiedBy>Andy Powell</cp:lastModifiedBy>
  <dcterms:modified xsi:type="dcterms:W3CDTF">2005-12-23T11:06:09Z</dcterms:modified>
  <cp:revision>7</cp:revision>
  <dc:subject/>
  <dc:title>DC Architecture WG meeting </dc:title>
</cp:coreProperties>
</file>