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9655A-003D-4D1F-9B5F-0EFC5CF16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5C25F-068D-4C2C-A609-6A3DE9977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33A94-98DF-483F-812A-E22AE6FF35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E1E8C-7266-4598-AF80-D25B7FCEBD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7F070-FF72-46D8-B4B0-5385821741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B66F-DEC5-4026-9CD4-ABD34387E9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AE32F-E4CD-445A-A371-D5521E2F38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8D794-92A4-4C06-9A04-DEC92710F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BFDC9-4C5A-451A-9499-31AC6A9E4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DEF9D-0A96-44E9-8CBB-56F7030F7B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E7C52-07A6-4C4A-A5CA-9A92FCBC65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2F18E-644D-44E2-BC02-A6DEA545B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581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7672-8DCE-49C1-8DCE-4DC924CEF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6095880"/>
            <a:ext cx="114300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 flipV="1">
            <a:off x="8915400" y="5181480"/>
            <a:ext cx="0" cy="144792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010280" y="6629400"/>
            <a:ext cx="190512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228600"/>
            <a:ext cx="190512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228600" y="228600"/>
            <a:ext cx="0" cy="144792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DRAFT%20UPDATE%20to%20DCMI%20Namespace%20Policy.htm" TargetMode="External"/><Relationship Id="rId2" Type="http://schemas.openxmlformats.org/officeDocument/2006/relationships/hyperlink" Target="file:///DRAFT%20UPDATE%20to%20DCMI%20Namespace%20Policy.htm" TargetMode="External"/><Relationship Id="rId3" Type="http://schemas.openxmlformats.org/officeDocument/2006/relationships/hyperlink" Target="file:///DRAFT%20UPDATE%20to%20DCMI%20Namespace%20Policy.htm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C Architecture WG meet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day Sept 1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ot 1: 15.30 - 17.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ot 2: 17.30 - 19.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cation: Seminar Room 4.1.E01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ML encoding guide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 of relevant W3C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 of DC RDF Taskfor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C RDF Taskfo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Clarification of the recommendations for encoding 'value strings' in DC RDF/XM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uidelines for encoding DC metadata using the RDF Mode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C Property Domains and Rang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osed changes to DCMI property 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CMI Term Decision Tre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C RDF Taskfo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Clarification of the recommendations for encoding 'value strings' in DC RDF/XM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uidelines for encoding DC metadata using the RDF Mode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DC Property Domains and Rang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Proposed changes to DCMI property 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DCMI Term Decision Tre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coding DC using RDF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ading towards new DCMI Recommend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placing the current Simple DC in RDF Recommendation and Qualified DC in RDF Proposed Recommend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pping from DCMI Abstract Model to RDF Mod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fore can use current and future RDF syntaxs (XML, N3, etc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CMI abstrac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descrip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made up o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63560" indent="-285840"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or mor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tatem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about one, and only one,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resour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63560" indent="-285840"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tionally, the URI of th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resour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ing described 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resource UR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7280" indent="-2872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statem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made up o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63560" indent="-285840"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roperty UR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that identifies 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ropert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63560" indent="-285840"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value URI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dentifies 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valu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/or one or more representations of th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value representation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2400" y="182160"/>
            <a:ext cx="8031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alue string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alue represent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ay take the form of a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alue str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a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rich valu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a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related descrip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alue str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simple, human-readable string that represents th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resour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at is th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th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proper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alue str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ay have an associated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alue string langua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at is an ISO language tag (e.g. en-GB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coding schem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alu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alue string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an be ‘qualified’ by using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encoding schem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ocabulary encoding sche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used to indicate the class of th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al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 th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aken from LCS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syntax encoding sche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used to indicate how th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alue str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structu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 th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value str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date structured according to the W3CDTF rules (“2004-10-12”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on s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l-world metadata applications tend to be based on loosely grouped sets of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descript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where the described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resourc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typically related in some wa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nown in the abstract model a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description s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xample, a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description se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ight compris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descript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both a painting and the arti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view of the ye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vised "DCMI Namespace Policy" recommend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vising "Guidelines for encoding DC in XML“ recommend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mmary of relevant W3C activities (GRDDL and RDF in XHTML) (*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kplan for next ye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c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description se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instantiated, for the purposes of exchange between software applications, in the form of metadata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recor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nforms to one of the DCMI encoding guidelines (XHTML meta tags, XML, RDF/XML, etc.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676520" y="4952880"/>
          <a:ext cx="99036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952880"/>
                    <a:ext cx="99036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6019920" y="4876920"/>
          <a:ext cx="99036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4876920"/>
                    <a:ext cx="99036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3886200" y="4952880"/>
            <a:ext cx="914400" cy="10670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4775040"/>
            <a:ext cx="3276720" cy="711360"/>
          </a:xfrm>
          <a:custGeom>
            <a:avLst/>
            <a:gdLst/>
            <a:ahLst/>
            <a:rect l="l" t="t" r="r" b="b"/>
            <a:pathLst>
              <a:path w="2064" h="448">
                <a:moveTo>
                  <a:pt x="0" y="448"/>
                </a:moveTo>
                <a:cubicBezTo>
                  <a:pt x="260" y="240"/>
                  <a:pt x="520" y="32"/>
                  <a:pt x="864" y="16"/>
                </a:cubicBezTo>
                <a:cubicBezTo>
                  <a:pt x="1208" y="0"/>
                  <a:pt x="1636" y="176"/>
                  <a:pt x="2064" y="352"/>
                </a:cubicBezTo>
              </a:path>
            </a:pathLst>
          </a:custGeom>
          <a:noFill/>
          <a:ln w="31680">
            <a:solidFill>
              <a:srgbClr val="3333cc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4495680"/>
            <a:ext cx="838080" cy="99072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&lt;dc:titl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 docu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&lt;/dc:titl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&lt;dc:creato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dy pow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&lt;/dc:creato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80840" y="5942160"/>
            <a:ext cx="1128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657600" y="5486040"/>
            <a:ext cx="380880" cy="60948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80880" y="990720"/>
            <a:ext cx="7772400" cy="5410080"/>
            <a:chOff x="380880" y="990720"/>
            <a:chExt cx="7772400" cy="5410080"/>
          </a:xfrm>
        </p:grpSpPr>
        <p:sp>
          <p:nvSpPr>
            <p:cNvPr id="95" name=""/>
            <p:cNvSpPr/>
            <p:nvPr/>
          </p:nvSpPr>
          <p:spPr>
            <a:xfrm>
              <a:off x="380880" y="990720"/>
              <a:ext cx="7772400" cy="54100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5640" y="1060560"/>
              <a:ext cx="50421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ecord (encoded as XHTML, XML or RDF/XM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09480" y="1447920"/>
            <a:ext cx="7467840" cy="4876200"/>
            <a:chOff x="609480" y="1447920"/>
            <a:chExt cx="7467840" cy="4876200"/>
          </a:xfrm>
        </p:grpSpPr>
        <p:sp>
          <p:nvSpPr>
            <p:cNvPr id="98" name=""/>
            <p:cNvSpPr/>
            <p:nvPr/>
          </p:nvSpPr>
          <p:spPr>
            <a:xfrm>
              <a:off x="609480" y="1447920"/>
              <a:ext cx="7467840" cy="48762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6240" y="1525320"/>
              <a:ext cx="1771560" cy="339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escription 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066680" y="2133720"/>
            <a:ext cx="6935760" cy="4113000"/>
          </a:xfrm>
          <a:prstGeom prst="rect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2057400"/>
            <a:ext cx="6933960" cy="4114800"/>
          </a:xfrm>
          <a:prstGeom prst="rect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1981080"/>
            <a:ext cx="6934320" cy="4114800"/>
          </a:xfrm>
          <a:prstGeom prst="rect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38080" y="1905120"/>
            <a:ext cx="6935760" cy="4114440"/>
            <a:chOff x="838080" y="1905120"/>
            <a:chExt cx="6935760" cy="4114440"/>
          </a:xfrm>
        </p:grpSpPr>
        <p:sp>
          <p:nvSpPr>
            <p:cNvPr id="104" name=""/>
            <p:cNvSpPr/>
            <p:nvPr/>
          </p:nvSpPr>
          <p:spPr>
            <a:xfrm>
              <a:off x="838080" y="1905120"/>
              <a:ext cx="6935760" cy="411444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56520" y="1984320"/>
              <a:ext cx="399672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escription (about a resource (URI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371600" y="2590920"/>
            <a:ext cx="6324480" cy="3352680"/>
          </a:xfrm>
          <a:prstGeom prst="rect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2514600"/>
            <a:ext cx="6324840" cy="3352680"/>
          </a:xfrm>
          <a:prstGeom prst="rect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2438280"/>
            <a:ext cx="6324480" cy="3353040"/>
          </a:xfrm>
          <a:prstGeom prst="rect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143000" y="2362320"/>
            <a:ext cx="6324480" cy="3352320"/>
            <a:chOff x="1143000" y="2362320"/>
            <a:chExt cx="6324480" cy="3352320"/>
          </a:xfrm>
        </p:grpSpPr>
        <p:sp>
          <p:nvSpPr>
            <p:cNvPr id="110" name=""/>
            <p:cNvSpPr/>
            <p:nvPr/>
          </p:nvSpPr>
          <p:spPr>
            <a:xfrm>
              <a:off x="1143000" y="2362320"/>
              <a:ext cx="6324480" cy="3352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19320" y="2443680"/>
              <a:ext cx="12837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447920" y="2819520"/>
            <a:ext cx="1904760" cy="457200"/>
            <a:chOff x="1447920" y="2819520"/>
            <a:chExt cx="1904760" cy="457200"/>
          </a:xfrm>
        </p:grpSpPr>
        <p:sp>
          <p:nvSpPr>
            <p:cNvPr id="113" name=""/>
            <p:cNvSpPr/>
            <p:nvPr/>
          </p:nvSpPr>
          <p:spPr>
            <a:xfrm>
              <a:off x="1447920" y="2819520"/>
              <a:ext cx="1904760" cy="4572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67800" y="2895480"/>
              <a:ext cx="170604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roperty (UR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505320" y="2819520"/>
            <a:ext cx="3886200" cy="2818800"/>
            <a:chOff x="3505320" y="2819520"/>
            <a:chExt cx="3886200" cy="2818800"/>
          </a:xfrm>
        </p:grpSpPr>
        <p:sp>
          <p:nvSpPr>
            <p:cNvPr id="116" name=""/>
            <p:cNvSpPr/>
            <p:nvPr/>
          </p:nvSpPr>
          <p:spPr>
            <a:xfrm>
              <a:off x="3505320" y="2819520"/>
              <a:ext cx="3886200" cy="28188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05760" y="2901960"/>
              <a:ext cx="13431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alue (UR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038480" y="3505320"/>
            <a:ext cx="3276720" cy="2057400"/>
          </a:xfrm>
          <a:prstGeom prst="rect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3429000"/>
            <a:ext cx="3276360" cy="2057400"/>
          </a:xfrm>
          <a:prstGeom prst="rect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3352680"/>
            <a:ext cx="3276720" cy="2057400"/>
          </a:xfrm>
          <a:prstGeom prst="rect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809880" y="3276720"/>
            <a:ext cx="3276720" cy="2057400"/>
            <a:chOff x="3809880" y="3276720"/>
            <a:chExt cx="3276720" cy="2057400"/>
          </a:xfrm>
        </p:grpSpPr>
        <p:sp>
          <p:nvSpPr>
            <p:cNvPr id="122" name=""/>
            <p:cNvSpPr/>
            <p:nvPr/>
          </p:nvSpPr>
          <p:spPr>
            <a:xfrm>
              <a:off x="3809880" y="3276720"/>
              <a:ext cx="3276720" cy="20574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77200" y="3352680"/>
              <a:ext cx="17866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epres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114800" y="3733920"/>
            <a:ext cx="2895480" cy="1523880"/>
            <a:chOff x="4114800" y="3733920"/>
            <a:chExt cx="2895480" cy="1523880"/>
          </a:xfrm>
        </p:grpSpPr>
        <p:grpSp>
          <p:nvGrpSpPr>
            <p:cNvPr id="125" name=""/>
            <p:cNvGrpSpPr/>
            <p:nvPr/>
          </p:nvGrpSpPr>
          <p:grpSpPr>
            <a:xfrm>
              <a:off x="4114800" y="3733920"/>
              <a:ext cx="2895480" cy="457200"/>
              <a:chOff x="4114800" y="3733920"/>
              <a:chExt cx="289548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4114800" y="3733920"/>
                <a:ext cx="2895480" cy="45720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177440" y="3810240"/>
                <a:ext cx="144684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value str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4114800" y="4267080"/>
              <a:ext cx="2895480" cy="457200"/>
              <a:chOff x="4114800" y="4267080"/>
              <a:chExt cx="2895480" cy="457200"/>
            </a:xfrm>
          </p:grpSpPr>
          <p:sp>
            <p:nvSpPr>
              <p:cNvPr id="129" name=""/>
              <p:cNvSpPr/>
              <p:nvPr/>
            </p:nvSpPr>
            <p:spPr>
              <a:xfrm>
                <a:off x="4114800" y="4267080"/>
                <a:ext cx="2895480" cy="45720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190760" y="4343400"/>
                <a:ext cx="16038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08080"/>
                    </a:solidFill>
                    <a:latin typeface="Comic Sans MS"/>
                  </a:rPr>
                  <a:t>OR rich valu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4114800" y="4800600"/>
              <a:ext cx="2895480" cy="457200"/>
              <a:chOff x="4114800" y="4800600"/>
              <a:chExt cx="2895480" cy="457200"/>
            </a:xfrm>
          </p:grpSpPr>
          <p:sp>
            <p:nvSpPr>
              <p:cNvPr id="132" name=""/>
              <p:cNvSpPr/>
              <p:nvPr/>
            </p:nvSpPr>
            <p:spPr>
              <a:xfrm>
                <a:off x="4114800" y="4800600"/>
                <a:ext cx="2895480" cy="45720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206600" y="4876920"/>
                <a:ext cx="259308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08080"/>
                    </a:solidFill>
                    <a:latin typeface="Comic Sans MS"/>
                  </a:rPr>
                  <a:t>OR related descrip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" name=""/>
          <p:cNvGrpSpPr/>
          <p:nvPr/>
        </p:nvGrpSpPr>
        <p:grpSpPr>
          <a:xfrm>
            <a:off x="3169080" y="2362320"/>
            <a:ext cx="4304520" cy="609480"/>
            <a:chOff x="3169080" y="2362320"/>
            <a:chExt cx="4304520" cy="609480"/>
          </a:xfrm>
        </p:grpSpPr>
        <p:sp>
          <p:nvSpPr>
            <p:cNvPr id="135" name=""/>
            <p:cNvSpPr/>
            <p:nvPr/>
          </p:nvSpPr>
          <p:spPr>
            <a:xfrm>
              <a:off x="3169080" y="2362320"/>
              <a:ext cx="430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vocabulary encoding scheme (UR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33920" y="2666880"/>
              <a:ext cx="380880" cy="3049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340280" y="3505320"/>
            <a:ext cx="2850840" cy="703800"/>
            <a:chOff x="1340280" y="3505320"/>
            <a:chExt cx="2850840" cy="703800"/>
          </a:xfrm>
        </p:grpSpPr>
        <p:sp>
          <p:nvSpPr>
            <p:cNvPr id="138" name=""/>
            <p:cNvSpPr/>
            <p:nvPr/>
          </p:nvSpPr>
          <p:spPr>
            <a:xfrm>
              <a:off x="1340280" y="3505320"/>
              <a:ext cx="2135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yntax encoding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cheme (UR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29000" y="3809880"/>
              <a:ext cx="762120" cy="763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629360" y="4038480"/>
            <a:ext cx="2561760" cy="932400"/>
            <a:chOff x="1629360" y="4038480"/>
            <a:chExt cx="2561760" cy="932400"/>
          </a:xfrm>
        </p:grpSpPr>
        <p:sp>
          <p:nvSpPr>
            <p:cNvPr id="141" name=""/>
            <p:cNvSpPr/>
            <p:nvPr/>
          </p:nvSpPr>
          <p:spPr>
            <a:xfrm>
              <a:off x="1629360" y="4267080"/>
              <a:ext cx="1570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language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(e.g. en-GB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048120" y="4038480"/>
              <a:ext cx="1143000" cy="5335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828800" y="3657600"/>
            <a:ext cx="10666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esourc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3581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property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9880" y="3657600"/>
            <a:ext cx="10670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valu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0600" y="3581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dfs:la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36576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value string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19520" y="3124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property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3200400"/>
            <a:ext cx="10670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valu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3352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3124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dfs:la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91320" y="32004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value string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property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9880" y="4114800"/>
            <a:ext cx="10670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valu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3352680"/>
            <a:ext cx="1218960" cy="30492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240"/>
                </a:moveTo>
                <a:cubicBezTo>
                  <a:pt x="80" y="164"/>
                  <a:pt x="160" y="88"/>
                  <a:pt x="288" y="48"/>
                </a:cubicBezTo>
                <a:cubicBezTo>
                  <a:pt x="416" y="8"/>
                  <a:pt x="592" y="4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590920" y="3962520"/>
            <a:ext cx="1218960" cy="30456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240"/>
                </a:moveTo>
                <a:cubicBezTo>
                  <a:pt x="80" y="164"/>
                  <a:pt x="160" y="88"/>
                  <a:pt x="288" y="48"/>
                </a:cubicBezTo>
                <a:cubicBezTo>
                  <a:pt x="416" y="8"/>
                  <a:pt x="592" y="4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40480" y="9399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2743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df: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2743200"/>
            <a:ext cx="21333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vocabularyEncodingSchem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3400" y="2895480"/>
            <a:ext cx="533520" cy="30492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240"/>
                </a:moveTo>
                <a:cubicBezTo>
                  <a:pt x="80" y="164"/>
                  <a:pt x="160" y="88"/>
                  <a:pt x="288" y="48"/>
                </a:cubicBezTo>
                <a:cubicBezTo>
                  <a:pt x="416" y="8"/>
                  <a:pt x="592" y="4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071080" y="939960"/>
            <a:ext cx="21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4114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mic Sans MS"/>
              </a:rPr>
              <a:t>stat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3809880"/>
            <a:ext cx="10670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esourc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37339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property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05320" y="3809880"/>
            <a:ext cx="10666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valu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95680" y="373392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dfs:la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38098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value string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3276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property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05320" y="3352680"/>
            <a:ext cx="10666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valu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95680" y="327672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dfs:la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3526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value string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property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4267080"/>
            <a:ext cx="10666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valu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0" y="3505320"/>
            <a:ext cx="1219320" cy="30456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240"/>
                </a:moveTo>
                <a:cubicBezTo>
                  <a:pt x="80" y="164"/>
                  <a:pt x="160" y="88"/>
                  <a:pt x="288" y="48"/>
                </a:cubicBezTo>
                <a:cubicBezTo>
                  <a:pt x="416" y="8"/>
                  <a:pt x="592" y="4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286000" y="4114080"/>
            <a:ext cx="1219320" cy="30492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240"/>
                </a:moveTo>
                <a:cubicBezTo>
                  <a:pt x="80" y="164"/>
                  <a:pt x="160" y="88"/>
                  <a:pt x="288" y="48"/>
                </a:cubicBezTo>
                <a:cubicBezTo>
                  <a:pt x="416" y="8"/>
                  <a:pt x="592" y="4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05320" y="2895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df: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2895480"/>
            <a:ext cx="21337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vocabularyEncodingSchem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3048120"/>
            <a:ext cx="533520" cy="30456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240"/>
                </a:moveTo>
                <a:cubicBezTo>
                  <a:pt x="80" y="164"/>
                  <a:pt x="160" y="88"/>
                  <a:pt x="288" y="48"/>
                </a:cubicBezTo>
                <a:cubicBezTo>
                  <a:pt x="416" y="8"/>
                  <a:pt x="592" y="4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3657600"/>
            <a:ext cx="4444920" cy="609480"/>
          </a:xfrm>
          <a:custGeom>
            <a:avLst/>
            <a:gdLst/>
            <a:ahLst/>
            <a:rect l="l" t="t" r="r" b="b"/>
            <a:pathLst>
              <a:path w="2800" h="576">
                <a:moveTo>
                  <a:pt x="144" y="136"/>
                </a:moveTo>
                <a:cubicBezTo>
                  <a:pt x="1016" y="68"/>
                  <a:pt x="1888" y="0"/>
                  <a:pt x="2304" y="40"/>
                </a:cubicBezTo>
                <a:cubicBezTo>
                  <a:pt x="2720" y="80"/>
                  <a:pt x="2800" y="288"/>
                  <a:pt x="2640" y="376"/>
                </a:cubicBezTo>
                <a:cubicBezTo>
                  <a:pt x="2480" y="464"/>
                  <a:pt x="1752" y="576"/>
                  <a:pt x="1344" y="568"/>
                </a:cubicBezTo>
                <a:cubicBezTo>
                  <a:pt x="936" y="560"/>
                  <a:pt x="384" y="400"/>
                  <a:pt x="192" y="328"/>
                </a:cubicBezTo>
                <a:cubicBezTo>
                  <a:pt x="0" y="256"/>
                  <a:pt x="96" y="196"/>
                  <a:pt x="192" y="136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20760" y="4038480"/>
            <a:ext cx="2959200" cy="571680"/>
          </a:xfrm>
          <a:custGeom>
            <a:avLst/>
            <a:gdLst/>
            <a:ahLst/>
            <a:rect l="l" t="t" r="r" b="b"/>
            <a:pathLst>
              <a:path w="1864" h="360">
                <a:moveTo>
                  <a:pt x="104" y="0"/>
                </a:moveTo>
                <a:cubicBezTo>
                  <a:pt x="720" y="44"/>
                  <a:pt x="1336" y="88"/>
                  <a:pt x="1592" y="144"/>
                </a:cubicBezTo>
                <a:cubicBezTo>
                  <a:pt x="1848" y="200"/>
                  <a:pt x="1864" y="312"/>
                  <a:pt x="1640" y="336"/>
                </a:cubicBezTo>
                <a:cubicBezTo>
                  <a:pt x="1416" y="360"/>
                  <a:pt x="496" y="344"/>
                  <a:pt x="248" y="288"/>
                </a:cubicBezTo>
                <a:cubicBezTo>
                  <a:pt x="0" y="232"/>
                  <a:pt x="76" y="116"/>
                  <a:pt x="152" y="0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65440" y="2768760"/>
            <a:ext cx="5410080" cy="1028520"/>
          </a:xfrm>
          <a:custGeom>
            <a:avLst/>
            <a:gdLst/>
            <a:ahLst/>
            <a:rect l="l" t="t" r="r" b="b"/>
            <a:pathLst>
              <a:path w="3408" h="648">
                <a:moveTo>
                  <a:pt x="280" y="560"/>
                </a:moveTo>
                <a:cubicBezTo>
                  <a:pt x="756" y="360"/>
                  <a:pt x="1232" y="160"/>
                  <a:pt x="1720" y="80"/>
                </a:cubicBezTo>
                <a:cubicBezTo>
                  <a:pt x="2208" y="0"/>
                  <a:pt x="3008" y="0"/>
                  <a:pt x="3208" y="80"/>
                </a:cubicBezTo>
                <a:cubicBezTo>
                  <a:pt x="3408" y="160"/>
                  <a:pt x="3384" y="472"/>
                  <a:pt x="2920" y="560"/>
                </a:cubicBezTo>
                <a:cubicBezTo>
                  <a:pt x="2456" y="648"/>
                  <a:pt x="848" y="616"/>
                  <a:pt x="424" y="608"/>
                </a:cubicBezTo>
                <a:cubicBezTo>
                  <a:pt x="0" y="600"/>
                  <a:pt x="188" y="556"/>
                  <a:pt x="376" y="512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4572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mic Sans MS"/>
              </a:rPr>
              <a:t>stat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259092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mic Sans MS"/>
              </a:rPr>
              <a:t>stat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600200" y="3733920"/>
            <a:ext cx="106668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esourc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36576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property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3733920"/>
            <a:ext cx="106704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valu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832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36576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dfs:la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37339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value string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7520" y="893880"/>
            <a:ext cx="657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cabulary encoding scheme U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327672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df: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3276720"/>
            <a:ext cx="21333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vocabularyEncodingSchem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429000"/>
            <a:ext cx="533520" cy="30492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240"/>
                </a:moveTo>
                <a:cubicBezTo>
                  <a:pt x="80" y="164"/>
                  <a:pt x="160" y="88"/>
                  <a:pt x="288" y="48"/>
                </a:cubicBezTo>
                <a:cubicBezTo>
                  <a:pt x="416" y="8"/>
                  <a:pt x="592" y="4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752480" y="3505320"/>
            <a:ext cx="106704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esourc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1952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3429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property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33920" y="3505320"/>
            <a:ext cx="106668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valu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24280" y="34290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dfs:la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15000" y="3505320"/>
            <a:ext cx="914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value string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6200" y="893880"/>
            <a:ext cx="24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u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94480" y="893880"/>
            <a:ext cx="741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lue string – where property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rdfs:Lit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3505320"/>
            <a:ext cx="106668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esourc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988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33920" y="3429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property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3505320"/>
            <a:ext cx="914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value string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523880" y="3352680"/>
            <a:ext cx="10670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esourc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09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3276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property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05320" y="3352680"/>
            <a:ext cx="10666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valu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327672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dfs:la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335268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value string”^^rdfDatatyp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2320" y="893880"/>
            <a:ext cx="393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ch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066680" y="3200400"/>
            <a:ext cx="10670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esourc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33720" y="3352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3124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property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3200400"/>
            <a:ext cx="10666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valu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14800" y="3352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3124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dfs:la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29200" y="3200400"/>
            <a:ext cx="2666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value string”^^syntaxEncodingSchem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9800" y="893880"/>
            <a:ext cx="572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ntax encoding scheme U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523880" y="3276720"/>
            <a:ext cx="106704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esourc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14600" y="32004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property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3276720"/>
            <a:ext cx="106668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valu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95680" y="3200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dfs:la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86400" y="3276720"/>
            <a:ext cx="12193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value string”@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1240" y="893880"/>
            <a:ext cx="45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ue string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view of the y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219320" y="2895480"/>
            <a:ext cx="10666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esourc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0" y="3048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281952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property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2895480"/>
            <a:ext cx="10666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valu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267080" y="3048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91120" y="28195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dfs:la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81480" y="2895480"/>
            <a:ext cx="8384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value string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7360" y="893880"/>
            <a:ext cx="38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ated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33920" y="32004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property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3429000"/>
            <a:ext cx="12193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733920" y="3200400"/>
            <a:ext cx="533160" cy="38088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240"/>
                </a:moveTo>
                <a:cubicBezTo>
                  <a:pt x="80" y="164"/>
                  <a:pt x="160" y="88"/>
                  <a:pt x="288" y="48"/>
                </a:cubicBezTo>
                <a:cubicBezTo>
                  <a:pt x="416" y="8"/>
                  <a:pt x="592" y="4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8640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10080" y="33526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dfs:la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34290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value string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19520" y="3581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property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67080" y="3809880"/>
            <a:ext cx="12193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657600" y="3199680"/>
            <a:ext cx="609480" cy="76212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240"/>
                </a:moveTo>
                <a:cubicBezTo>
                  <a:pt x="80" y="164"/>
                  <a:pt x="160" y="88"/>
                  <a:pt x="288" y="48"/>
                </a:cubicBezTo>
                <a:cubicBezTo>
                  <a:pt x="416" y="8"/>
                  <a:pt x="592" y="4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864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10080" y="373392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dfs:la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400800" y="38098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value string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84400" y="2527200"/>
            <a:ext cx="4838760" cy="1943280"/>
          </a:xfrm>
          <a:custGeom>
            <a:avLst/>
            <a:gdLst/>
            <a:ahLst/>
            <a:rect l="l" t="t" r="r" b="b"/>
            <a:pathLst>
              <a:path w="3048" h="1224">
                <a:moveTo>
                  <a:pt x="376" y="40"/>
                </a:moveTo>
                <a:cubicBezTo>
                  <a:pt x="244" y="44"/>
                  <a:pt x="112" y="48"/>
                  <a:pt x="88" y="184"/>
                </a:cubicBezTo>
                <a:cubicBezTo>
                  <a:pt x="64" y="320"/>
                  <a:pt x="0" y="688"/>
                  <a:pt x="232" y="856"/>
                </a:cubicBezTo>
                <a:cubicBezTo>
                  <a:pt x="464" y="1024"/>
                  <a:pt x="1048" y="1160"/>
                  <a:pt x="1480" y="1192"/>
                </a:cubicBezTo>
                <a:cubicBezTo>
                  <a:pt x="1912" y="1224"/>
                  <a:pt x="2600" y="1152"/>
                  <a:pt x="2824" y="1048"/>
                </a:cubicBezTo>
                <a:cubicBezTo>
                  <a:pt x="3048" y="944"/>
                  <a:pt x="2928" y="664"/>
                  <a:pt x="2824" y="568"/>
                </a:cubicBezTo>
                <a:cubicBezTo>
                  <a:pt x="2720" y="472"/>
                  <a:pt x="2480" y="488"/>
                  <a:pt x="2200" y="472"/>
                </a:cubicBezTo>
                <a:cubicBezTo>
                  <a:pt x="1920" y="456"/>
                  <a:pt x="1368" y="504"/>
                  <a:pt x="1144" y="472"/>
                </a:cubicBezTo>
                <a:cubicBezTo>
                  <a:pt x="920" y="440"/>
                  <a:pt x="936" y="352"/>
                  <a:pt x="856" y="280"/>
                </a:cubicBezTo>
                <a:cubicBezTo>
                  <a:pt x="776" y="208"/>
                  <a:pt x="752" y="80"/>
                  <a:pt x="664" y="40"/>
                </a:cubicBezTo>
                <a:cubicBezTo>
                  <a:pt x="576" y="0"/>
                  <a:pt x="452" y="20"/>
                  <a:pt x="328" y="40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419112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mic Sans MS"/>
              </a:rPr>
              <a:t>related descri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C RDF Taskfo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Clarification of the recommendations for encoding 'value strings' in DC RDF/XM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Guidelines for encoding DC metadata using the RDF Mode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C Property Domains and Rang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Proposed changes to DCMI property 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DCMI Term Decision Tre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s and ra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main’ – the class of resources that a property can be used to describ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ange’ – the class of resources that are allowed as values of a proper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xample: what are the domain and range of dc:crea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omain = NonAgentResour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ange = Ag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king explicit what has been implicit until n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C RDF Taskfo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Clarification of the recommendations for encoding 'value strings' in DC RDF/XM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Guidelines for encoding DC metadata using the RDF Mode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DC Property Domains and Rang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osed changes to DCMI property 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DCMI Term Decision Tre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vising DC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sing the language of the definitions to align them with the DCMI Abstract Mod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xample dc:rel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s: A reference to a related resourc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to: A related resour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main:  Resour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nge: Resour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so note issue with use of ‘content of the resource’ in 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C RDF Taskfo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Clarification of the recommendations for encoding 'value strings' in DC RDF/XM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Guidelines for encoding DC metadata using the RDF Mode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DC Property Domains and Rang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Proposed changes to DCMI property 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CMI Term Decision Tre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rm decis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do you know if something is usable in DC metadata descriptions or no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 it been explicitly declared as an element, element refinement or encoding schem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 it been assigned a unique URI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declaration available at that URI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 answers are all ‘yes’, then the thing can be used in DC metada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orkplan for 200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orkplan - taskfo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 short document for RDF implementers, clarifying the resource vs. literal string value issue and providing advice on best pract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 possible RDF encoding changes (in light of above issue), carry out impact analysis and make recommend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orkplan – tidying 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alise provision of a persistent URI for the latest version of our XML schem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alise revisions to the Guidelines for implementing Dublin Core in XML docu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alise revisions to the Namespace Policy for the Dublin Core Metadata Initiative (DCMI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during 200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CMI Abstract Model document issued as a Recommend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greed persistent URIs for the latest version of our XML schem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veloped draft revised "DCMI Namespace Policy“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posed changes to XML guideli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t up task force to look at DC/RDF iss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orkplan – new stu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aluate use of GRDDL as mechanism for transforming arbitrary DC/XML documents into RDF (DCMI AM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itor W3C developments for RDF in XHTML and revise current DC/XHTML guidelines as necess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 model of ‘application profiles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resenting Box/Period/Point in DCAM/RDF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vised DCMI namespace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vised Namespace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draft policy is available at:</a:t>
            </a:r>
            <a:br>
              <a:rPr sz="3200"/>
            </a:br>
            <a:r>
              <a:rPr b="0" lang="en-GB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www.ukoln.ac.uk/metadata/dcmi/namespace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-policy/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w terminolo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rtly to remove confusion with XML namespa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CMI namespace - A collection of DCMI term URIs where each term is assigned a URI that starts with the same 'base URI'. The 'base URI' is known as the DCMI namespace URI. (Note that a DCMI namespace is not the same as an 'XML namespace'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CMI namespace URI - The URI that identifies a DCMI namesp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ocabulary - A collection of terms (often as used in the context of an 'applicat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ofile'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amespaces vs. vocabula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te that the grouping of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term URI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nto a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DCMI namespac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orthogonal to the grouping of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term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nto a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term URI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re grouped into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DCMI namespac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n order to ease the assignment of URIs to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term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to streamline their use in particular encoding syntax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term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re grouped into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vocabulari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n order to meet a functional need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ever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quite clearly haven't done this in the case of the DC and DCTERMS namespa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have kept two namespaces simply for historical reason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fore suggest replicating all the current terms in the DC namespace into the DCTERMS namespace, using RDFS/OWL to explicitly declare equivalences as necess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00:03:29Z</dcterms:created>
  <dc:creator>Andy Powell</dc:creator>
  <dc:description/>
  <dc:language>en-US</dc:language>
  <cp:lastModifiedBy>Andy Powell</cp:lastModifiedBy>
  <dcterms:modified xsi:type="dcterms:W3CDTF">2005-12-23T11:06:09Z</dcterms:modified>
  <cp:revision>7</cp:revision>
  <dc:subject/>
  <dc:title>DC Architecture WG meeting </dc:title>
</cp:coreProperties>
</file>