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9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9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72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Aft>
                <a:spcPts val="1137"/>
              </a:spcAft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99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599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72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Aft>
                <a:spcPts val="1137"/>
              </a:spcAft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727280" indent="-21600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144360" y="7159680"/>
            <a:ext cx="92170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c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rebuchet MS"/>
              </a:rPr>
              <a:t>The Knowledge Management Research Grou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"/>
          <p:cNvSpPr/>
          <p:nvPr/>
        </p:nvSpPr>
        <p:spPr>
          <a:xfrm>
            <a:off x="9577440" y="7153200"/>
            <a:ext cx="395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B6113A-FD5A-4E03-955A-8DCF86399FBD}" type="slidenum">
              <a:rPr b="0" lang="en-GB" sz="2000" spc="-1" strike="noStrike">
                <a:solidFill>
                  <a:srgbClr val="33336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147492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xample.com/uri3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 algn="ctr">
              <a:lnSpc>
                <a:spcPct val="98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Fredrik Enoksson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 &lt;fen@csc.kth.s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Knowledge Management Research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University of Uppsala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Royal Institute of Technology, Swed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http://kmr.nada.kth.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DC 2007, Singapore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Aug 28,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39800" y="606600"/>
            <a:ext cx="860904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A wiki syntax for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C Description Set Profiles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SP wiki syntax, why?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Most Annotation Profile are basically web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Combines the formal expression of a DSP together with Annotation Profile docum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From the wiki-syntax crea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-2160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HTML pag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 can be created for human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XML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-serialization for the D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Easy to use(learn) and maint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esign goals and syntax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50800" y="1900080"/>
            <a:ext cx="89805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s easy to express as poss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ix normal and specific DSP wiki-syn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4 basic struc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DT, for the Descrip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ST, for the Statement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NLC, for the Non-literal value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C, for the Literal value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euse of Hierarchical structure of D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ST belongs to the DT it is declared u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LC or NLC belongs to the ST it is declared u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escription Templat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claration of a Description Templa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identif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minimum and maximum occur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nd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ource Class Membership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DT=(min="1" max="1" standalone="y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identifier="book")</a:t>
            </a: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Statement Templat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la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mum and maximum occur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(Literal or Non-literal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y list constrai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-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ST=(max="1" type="literal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       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PC={http://purl.org/dc/terms/title}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800" y="2318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Literal Constrain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9800" y="1564920"/>
            <a:ext cx="860904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yntax Encoding Sche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possible schem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SESConstraint=(occurrence="disallowed")</a:t>
            </a: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uage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LangC=(occurrence="disallowed"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iteral list (with SES or language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{[value="example" lang="en"], [value=”exempel” lang=”sv”]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800" y="484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Non-literal value constrain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9800" y="1793880"/>
            <a:ext cx="860904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ocabulary Encoding Sche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possible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VESConstraint=( occurrence="optional" {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xample.com/uri3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}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lue URI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possible UR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VURIConstraint=( occurrence="optional" {http://www.example.com/uri1}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800" y="606600"/>
            <a:ext cx="860904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Non-literal value constraint, continued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9800" y="2058840"/>
            <a:ext cx="860904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description="agent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lue St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maximum and minimum occurr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t is declared the same way as Literal Value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VStringConstraint=(max="1" LangC=(occurrence="disallowed"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" y="1187280"/>
            <a:ext cx="720720" cy="3492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368360"/>
            <a:ext cx="41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T 1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-2728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9015480" cy="64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{{{#!D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 Description template: Book 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DT=(min="1" max="1" standalone="yes" identifier="book"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= Title =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T=(max="1" type="literal" PC={http://purl.org/dc/terms/title}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|| Definition || A name given to the resource. ||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LC=(LangC=(occurrence="optional") SESConstraint=(occurrence="disallowed") 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= Creator =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T=(max="1" type="nonliteral" PC={http://purl.org/dc/terms/creator}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|| Definition || An entity primarily responsible for making the resource. ||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NLC=(VURIConstraint=(occurrence="disallowed") VESConstraint=(occurrence="disallowed"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VStringConstraint=(max="1" LangC=(occurrence="disallowed"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ESConstraint=(occurrence="disallowed")) description="creator" 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 Description template: Creator 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DT=(min="1" max="1" standalone="no" identifier="creator"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= Name =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T=(max="1" type="literal" PC={http://xmlns.com/foaf/0.1/name}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|| Definition || A name for some thing.  ||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LC=(LangC=(occurrence="disallowed") SESConstraint=(occurrence="disallowed") 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}} //closing brack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80" y="2052720"/>
            <a:ext cx="613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ST 1.1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3203640"/>
            <a:ext cx="613080" cy="1297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ST 1.2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4896000"/>
            <a:ext cx="720720" cy="180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44360" y="4952880"/>
            <a:ext cx="41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T 2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5759280"/>
            <a:ext cx="613080" cy="739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ST 2.1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drik Enoksson</dc:creator>
  <dc:description/>
  <dc:language>en-US</dc:language>
  <cp:lastModifiedBy>Fredrik Enoksson</cp:lastModifiedBy>
  <cp:revision>0</cp:revision>
  <dc:subject/>
  <dc:title/>
</cp:coreProperties>
</file>