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7D4-7D05-4128-9339-EB914CF0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4EF-BFC3-46A4-A9B5-55344FCD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256-9FDB-48CE-9E7C-705FFA8B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DE2-7318-4691-8E97-C61C0B50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B6C-8621-4B8C-AC4D-D54F48EF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F0F-D89E-44DC-B4BC-C3C72D6F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012-9837-4108-9F5C-D74F8421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0A9-CE05-47A0-AA92-71836618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F6F-E3BA-4CF3-9DCE-1E9053A2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11F-ADFC-46C1-8530-89F69F1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EFD-C75C-48E2-9088-7590471C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A7B-BAC4-4076-809A-A4D42D06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E725-F383-4E27-905F-A43F324D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a DC Application Profil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47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DCAM-conformant Application Profile (“DC Application Profile”) is packet of documentation which consists of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nctional requirements (desirab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main model (mandat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ption Set Profile (DSP) (mandat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age guidelines (option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coding syntax guidelines (option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9132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91320" cy="455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838080"/>
            <a:ext cx="7620120" cy="23623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200400"/>
            <a:ext cx="762012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572000"/>
            <a:ext cx="762012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8360" y="5715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8000" y="4191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8840" y="95076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2:50:37Z</dcterms:created>
  <dc:creator>Thomas Baker</dc:creator>
  <dc:description/>
  <dc:language>en-US</dc:language>
  <cp:lastModifiedBy>Thomas Baker</cp:lastModifiedBy>
  <dcterms:modified xsi:type="dcterms:W3CDTF">2007-08-20T09:05:13Z</dcterms:modified>
  <cp:revision>4</cp:revision>
  <dc:subject/>
  <dc:title>What is a DC Application Profile?</dc:title>
</cp:coreProperties>
</file>