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91D-8A1C-48D3-AD39-B1A40974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387-A50A-4F0B-A15B-69794640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FC9-7A7C-4293-A1A4-87875C79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79A-9B39-44C7-830A-07665BBA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E76-2C14-4A66-BE66-AA7B36AB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06E-4AB1-461E-A1D2-D301EA0D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4FE-340D-4AA6-8DB9-86D1E8C3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ED3-C6F6-4C63-9E57-88EB68F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2C3-668F-4AAB-9454-879C8293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21F-DDD2-4F28-8522-B18BEBBA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39A-78BB-4260-B3D2-7CFA40D4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AEA-484F-459D-BE3F-770E3271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D71F-D9CD-4640-9A5B-17AE3375A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a DC Application Profil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47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DCAM-conformant Application Profile (“DC Application Profile”) is packet of documentation which consists of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nctional requirements (desirab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main model (mandato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ption Set Profile (DSP) (mandato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age guidelines (option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ncoding syntax guidelines (option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9132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91320" cy="455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838080"/>
            <a:ext cx="7620120" cy="23623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200400"/>
            <a:ext cx="762012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572000"/>
            <a:ext cx="762012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8360" y="5715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8000" y="4191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8840" y="95076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2:50:37Z</dcterms:created>
  <dc:creator>Thomas Baker</dc:creator>
  <dc:description/>
  <dc:language>en-US</dc:language>
  <cp:lastModifiedBy>Thomas Baker</cp:lastModifiedBy>
  <dcterms:modified xsi:type="dcterms:W3CDTF">2007-08-20T09:05:13Z</dcterms:modified>
  <cp:revision>4</cp:revision>
  <dc:subject/>
  <dc:title>What is a DC Application Profile?</dc:title>
</cp:coreProperties>
</file>