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AD9-D9CE-4D3C-905F-E6FE657D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259704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6F8-8088-49D3-B393-398DE74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1804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BC6-F774-42A8-9908-F7D51D8A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204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6636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745-1944-4481-8432-90BC7CF7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1412640"/>
            <a:ext cx="6400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599-D7E7-4E47-90C0-0A437A3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1804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259704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1804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0204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166360" y="2597040"/>
            <a:ext cx="206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A1B-A535-4FFA-BF78-D140D289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343-CA2B-4126-85CE-5286C809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C2C-2F71-4ACC-9795-F8C18E0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1412640"/>
            <a:ext cx="6400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2CE-EBB9-47B4-A0C1-8F0C6DD8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2BB-28BB-4043-BA6E-CABDE008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18040" y="259704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B56-C465-4F0E-90FD-CFECA770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2597040"/>
            <a:ext cx="6400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AF7-730C-4CD2-AD27-2E1030C6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924680" y="380880"/>
            <a:ext cx="489240" cy="83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9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2685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7560" indent="-280800">
              <a:spcBef>
                <a:spcPts val="9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8920" indent="-26172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8920" indent="-26172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8920" indent="-26172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627600" y="6516360"/>
            <a:ext cx="1220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838080" y="65163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9616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9616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001000" y="651636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A20E-F17E-443A-8DC1-92D5372FD18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7923240" y="6553080"/>
            <a:ext cx="0" cy="306360"/>
          </a:xfrm>
          <a:prstGeom prst="line">
            <a:avLst/>
          </a:prstGeom>
          <a:ln w="8280">
            <a:solidFill>
              <a:srgbClr val="496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1371600"/>
          </a:xfrm>
          <a:prstGeom prst="rect">
            <a:avLst/>
          </a:prstGeom>
          <a:solidFill>
            <a:srgbClr val="cbc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24680" y="380880"/>
            <a:ext cx="489240" cy="8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1366920"/>
            <a:ext cx="915192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 rot="5400000">
            <a:off x="7619760" y="170820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27813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680" y="2806560"/>
            <a:ext cx="37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Pete Johnston &amp; Andy Powell, Eduserv Found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pete.johnston@eduserv.org.uk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andy.powell@eduserv.org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www.eduserv.org.uk/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808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62120" indent="226800" algn="ctr">
              <a:spcBef>
                <a:spcPts val="675"/>
              </a:spcBef>
              <a:buClr>
                <a:srgbClr val="4961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143000" indent="293760" algn="ctr"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523880" indent="373320" algn="ctr">
              <a:spcBef>
                <a:spcPts val="524"/>
              </a:spcBef>
              <a:buClr>
                <a:srgbClr val="49616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523880" indent="37332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523880" indent="37332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pdate on work o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ETIS Metadata &amp; Digital Repositories SIG, UKOLN, Bat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16000" y="22536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cbc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M Concep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940360" y="189000"/>
            <a:ext cx="198144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blin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59280" y="55897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C-RD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0280" y="5573880"/>
            <a:ext cx="198144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C-XM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"/>
          <p:cNvCxnSpPr>
            <a:stCxn id="398" idx="0"/>
            <a:endCxn id="393" idx="2"/>
          </p:cNvCxnSpPr>
          <p:nvPr/>
        </p:nvCxnSpPr>
        <p:spPr>
          <a:xfrm flipV="1">
            <a:off x="2106360" y="910440"/>
            <a:ext cx="108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400" idx="0"/>
            <a:endCxn id="394" idx="2"/>
          </p:cNvCxnSpPr>
          <p:nvPr/>
        </p:nvCxnSpPr>
        <p:spPr>
          <a:xfrm flipV="1">
            <a:off x="6930720" y="874440"/>
            <a:ext cx="1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2217960" y="116064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orm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42320" y="116208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orm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398" idx="2"/>
            <a:endCxn id="404" idx="0"/>
          </p:cNvCxnSpPr>
          <p:nvPr/>
        </p:nvCxnSpPr>
        <p:spPr>
          <a:xfrm flipH="1">
            <a:off x="1098360" y="3102120"/>
            <a:ext cx="1008720" cy="24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8" idx="3"/>
            <a:endCxn id="406" idx="0"/>
          </p:cNvCxnSpPr>
          <p:nvPr/>
        </p:nvCxnSpPr>
        <p:spPr>
          <a:xfrm>
            <a:off x="2763720" y="2360520"/>
            <a:ext cx="1340640" cy="10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539640" y="4365720"/>
            <a:ext cx="109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un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73040" y="2060640"/>
            <a:ext cx="110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loss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400" idx="2"/>
            <a:endCxn id="410" idx="0"/>
          </p:cNvCxnSpPr>
          <p:nvPr/>
        </p:nvCxnSpPr>
        <p:spPr>
          <a:xfrm>
            <a:off x="6930720" y="287640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6" idx="3"/>
            <a:endCxn id="410" idx="1"/>
          </p:cNvCxnSpPr>
          <p:nvPr/>
        </p:nvCxnSpPr>
        <p:spPr>
          <a:xfrm flipV="1">
            <a:off x="4869000" y="3867840"/>
            <a:ext cx="129744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10" idx="2"/>
            <a:endCxn id="395" idx="0"/>
          </p:cNvCxnSpPr>
          <p:nvPr/>
        </p:nvCxnSpPr>
        <p:spPr>
          <a:xfrm flipH="1">
            <a:off x="5849280" y="4389480"/>
            <a:ext cx="1081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0" idx="2"/>
            <a:endCxn id="396" idx="0"/>
          </p:cNvCxnSpPr>
          <p:nvPr/>
        </p:nvCxnSpPr>
        <p:spPr>
          <a:xfrm>
            <a:off x="6931080" y="4389480"/>
            <a:ext cx="1070640" cy="11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6457320" y="501336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un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175440" y="1844640"/>
            <a:ext cx="1511280" cy="1022400"/>
            <a:chOff x="6175440" y="1844640"/>
            <a:chExt cx="1511280" cy="1022400"/>
          </a:xfrm>
        </p:grpSpPr>
        <p:sp>
          <p:nvSpPr>
            <p:cNvPr id="400" name=""/>
            <p:cNvSpPr/>
            <p:nvPr/>
          </p:nvSpPr>
          <p:spPr>
            <a:xfrm>
              <a:off x="6175440" y="1844640"/>
              <a:ext cx="1511280" cy="1022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221160" y="1890360"/>
              <a:ext cx="1404360" cy="427320"/>
              <a:chOff x="6221160" y="1890360"/>
              <a:chExt cx="1404360" cy="427320"/>
            </a:xfrm>
          </p:grpSpPr>
          <p:sp>
            <p:nvSpPr>
              <p:cNvPr id="417" name=""/>
              <p:cNvSpPr/>
              <p:nvPr/>
            </p:nvSpPr>
            <p:spPr>
              <a:xfrm>
                <a:off x="6221160" y="1936080"/>
                <a:ext cx="1404360" cy="38160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12600" y="189036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305040" y="1981800"/>
                <a:ext cx="1236600" cy="88920"/>
                <a:chOff x="6305040" y="1981800"/>
                <a:chExt cx="1236600" cy="889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305040" y="198180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351840" y="1996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84920" y="1996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218000" y="1996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305040" y="2098080"/>
                <a:ext cx="1236600" cy="88920"/>
                <a:chOff x="6305040" y="2098080"/>
                <a:chExt cx="1236600" cy="889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305040" y="20980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51840" y="2113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784920" y="2113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218000" y="2113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6305040" y="2213280"/>
                <a:ext cx="1236600" cy="88920"/>
                <a:chOff x="6305040" y="2213280"/>
                <a:chExt cx="1236600" cy="889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305040" y="22132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351840" y="22284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784920" y="22284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"/>
            <p:cNvGrpSpPr/>
            <p:nvPr/>
          </p:nvGrpSpPr>
          <p:grpSpPr>
            <a:xfrm>
              <a:off x="6221160" y="2394000"/>
              <a:ext cx="1404360" cy="427320"/>
              <a:chOff x="6221160" y="2394000"/>
              <a:chExt cx="1404360" cy="427320"/>
            </a:xfrm>
          </p:grpSpPr>
          <p:sp>
            <p:nvSpPr>
              <p:cNvPr id="434" name=""/>
              <p:cNvSpPr/>
              <p:nvPr/>
            </p:nvSpPr>
            <p:spPr>
              <a:xfrm>
                <a:off x="6221160" y="2439720"/>
                <a:ext cx="1404360" cy="38160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312600" y="239400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6302160" y="2487240"/>
                <a:ext cx="1236600" cy="88920"/>
                <a:chOff x="6302160" y="2487240"/>
                <a:chExt cx="1236600" cy="889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302160" y="24872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348960" y="25023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782040" y="25023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215120" y="25023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302160" y="2603520"/>
                <a:ext cx="1236600" cy="88920"/>
                <a:chOff x="6302160" y="2603520"/>
                <a:chExt cx="1236600" cy="88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302160" y="260352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348960" y="261864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782040" y="261864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215120" y="261864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6299640" y="2719080"/>
                <a:ext cx="1236600" cy="88920"/>
                <a:chOff x="6299640" y="2719080"/>
                <a:chExt cx="1236600" cy="889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299640" y="27190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346440" y="2734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779520" y="27342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0" name=""/>
          <p:cNvGrpSpPr/>
          <p:nvPr/>
        </p:nvGrpSpPr>
        <p:grpSpPr>
          <a:xfrm>
            <a:off x="3348000" y="3375000"/>
            <a:ext cx="1511280" cy="1022400"/>
            <a:chOff x="3348000" y="3375000"/>
            <a:chExt cx="1511280" cy="1022400"/>
          </a:xfrm>
        </p:grpSpPr>
        <p:sp>
          <p:nvSpPr>
            <p:cNvPr id="406" name=""/>
            <p:cNvSpPr/>
            <p:nvPr/>
          </p:nvSpPr>
          <p:spPr>
            <a:xfrm>
              <a:off x="3348000" y="3375000"/>
              <a:ext cx="1511280" cy="1022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393720" y="3420720"/>
              <a:ext cx="1404360" cy="427320"/>
              <a:chOff x="3393720" y="3420720"/>
              <a:chExt cx="1404360" cy="427320"/>
            </a:xfrm>
          </p:grpSpPr>
          <p:sp>
            <p:nvSpPr>
              <p:cNvPr id="452" name=""/>
              <p:cNvSpPr/>
              <p:nvPr/>
            </p:nvSpPr>
            <p:spPr>
              <a:xfrm>
                <a:off x="3393720" y="3466440"/>
                <a:ext cx="1404360" cy="38160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85160" y="342072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3477600" y="3512160"/>
                <a:ext cx="1236600" cy="88920"/>
                <a:chOff x="3477600" y="3512160"/>
                <a:chExt cx="1236600" cy="88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477600" y="351216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524400" y="35272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957480" y="35272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90560" y="35272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477600" y="3628440"/>
                <a:ext cx="1236600" cy="88920"/>
                <a:chOff x="3477600" y="3628440"/>
                <a:chExt cx="1236600" cy="889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77600" y="36284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524400" y="3643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957480" y="3643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390560" y="3643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3477600" y="3743640"/>
                <a:ext cx="1236600" cy="88920"/>
                <a:chOff x="3477600" y="3743640"/>
                <a:chExt cx="1236600" cy="88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3477600" y="37436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524400" y="37587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957480" y="37587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"/>
            <p:cNvGrpSpPr/>
            <p:nvPr/>
          </p:nvGrpSpPr>
          <p:grpSpPr>
            <a:xfrm>
              <a:off x="3393720" y="3924360"/>
              <a:ext cx="1404360" cy="427320"/>
              <a:chOff x="3393720" y="3924360"/>
              <a:chExt cx="1404360" cy="427320"/>
            </a:xfrm>
          </p:grpSpPr>
          <p:sp>
            <p:nvSpPr>
              <p:cNvPr id="469" name=""/>
              <p:cNvSpPr/>
              <p:nvPr/>
            </p:nvSpPr>
            <p:spPr>
              <a:xfrm>
                <a:off x="3393720" y="3970080"/>
                <a:ext cx="1404360" cy="38160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85160" y="392436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3474720" y="4017600"/>
                <a:ext cx="1236600" cy="88920"/>
                <a:chOff x="3474720" y="4017600"/>
                <a:chExt cx="1236600" cy="889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3474720" y="401760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521520" y="40327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54600" y="40327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387680" y="40327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474720" y="4133880"/>
                <a:ext cx="1236600" cy="88920"/>
                <a:chOff x="3474720" y="4133880"/>
                <a:chExt cx="1236600" cy="88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474720" y="41338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21520" y="4149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954600" y="4149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387680" y="4149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472200" y="4249440"/>
                <a:ext cx="1236600" cy="88920"/>
                <a:chOff x="3472200" y="4249440"/>
                <a:chExt cx="1236600" cy="889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72200" y="42494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519000" y="4264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952080" y="4264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5" name=""/>
          <p:cNvGrpSpPr/>
          <p:nvPr/>
        </p:nvGrpSpPr>
        <p:grpSpPr>
          <a:xfrm>
            <a:off x="6175440" y="3357720"/>
            <a:ext cx="1511280" cy="1022040"/>
            <a:chOff x="6175440" y="3357720"/>
            <a:chExt cx="1511280" cy="1022040"/>
          </a:xfrm>
        </p:grpSpPr>
        <p:sp>
          <p:nvSpPr>
            <p:cNvPr id="410" name=""/>
            <p:cNvSpPr/>
            <p:nvPr/>
          </p:nvSpPr>
          <p:spPr>
            <a:xfrm>
              <a:off x="6175440" y="3357720"/>
              <a:ext cx="1511280" cy="1022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6221160" y="3403440"/>
              <a:ext cx="1404360" cy="426960"/>
              <a:chOff x="6221160" y="3403440"/>
              <a:chExt cx="1404360" cy="426960"/>
            </a:xfrm>
          </p:grpSpPr>
          <p:sp>
            <p:nvSpPr>
              <p:cNvPr id="487" name=""/>
              <p:cNvSpPr/>
              <p:nvPr/>
            </p:nvSpPr>
            <p:spPr>
              <a:xfrm>
                <a:off x="6221160" y="3449160"/>
                <a:ext cx="1404360" cy="38124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312600" y="340344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6305040" y="3494880"/>
                <a:ext cx="1236600" cy="88920"/>
                <a:chOff x="6305040" y="3494880"/>
                <a:chExt cx="1236600" cy="889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6305040" y="34948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351840" y="3510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784920" y="3510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218000" y="3510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305040" y="3610800"/>
                <a:ext cx="1236600" cy="88920"/>
                <a:chOff x="6305040" y="3610800"/>
                <a:chExt cx="1236600" cy="889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305040" y="361080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351840" y="3625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784920" y="3625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218000" y="3625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305040" y="3726360"/>
                <a:ext cx="1236600" cy="88920"/>
                <a:chOff x="6305040" y="3726360"/>
                <a:chExt cx="1236600" cy="889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305040" y="372636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351840" y="37414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84920" y="37414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6221160" y="3906720"/>
              <a:ext cx="1404360" cy="426960"/>
              <a:chOff x="6221160" y="3906720"/>
              <a:chExt cx="1404360" cy="426960"/>
            </a:xfrm>
          </p:grpSpPr>
          <p:sp>
            <p:nvSpPr>
              <p:cNvPr id="504" name=""/>
              <p:cNvSpPr/>
              <p:nvPr/>
            </p:nvSpPr>
            <p:spPr>
              <a:xfrm>
                <a:off x="6221160" y="3952440"/>
                <a:ext cx="1404360" cy="38124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12600" y="3906720"/>
                <a:ext cx="274680" cy="60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6302160" y="3999960"/>
                <a:ext cx="1236600" cy="88920"/>
                <a:chOff x="6302160" y="3999960"/>
                <a:chExt cx="1236600" cy="88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302160" y="399996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348960" y="40150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782040" y="40150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215120" y="401508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302160" y="4115880"/>
                <a:ext cx="1236600" cy="88920"/>
                <a:chOff x="6302160" y="4115880"/>
                <a:chExt cx="1236600" cy="889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6302160" y="411588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348960" y="4131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82040" y="4131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215120" y="413100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299640" y="4231440"/>
                <a:ext cx="1236600" cy="88920"/>
                <a:chOff x="6299640" y="4231440"/>
                <a:chExt cx="1236600" cy="889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299640" y="4231440"/>
                  <a:ext cx="1236600" cy="88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346440" y="4246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779520" y="4246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0" name=""/>
          <p:cNvSpPr/>
          <p:nvPr/>
        </p:nvSpPr>
        <p:spPr>
          <a:xfrm>
            <a:off x="324000" y="206064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OM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459080" y="1628640"/>
            <a:ext cx="1295280" cy="1463760"/>
            <a:chOff x="1459080" y="1628640"/>
            <a:chExt cx="1295280" cy="1463760"/>
          </a:xfrm>
        </p:grpSpPr>
        <p:sp>
          <p:nvSpPr>
            <p:cNvPr id="398" name=""/>
            <p:cNvSpPr/>
            <p:nvPr/>
          </p:nvSpPr>
          <p:spPr>
            <a:xfrm>
              <a:off x="1459080" y="1628640"/>
              <a:ext cx="1295280" cy="1463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1495080" y="1682280"/>
              <a:ext cx="1198440" cy="557640"/>
              <a:chOff x="1495080" y="1682280"/>
              <a:chExt cx="1198440" cy="557640"/>
            </a:xfrm>
          </p:grpSpPr>
          <p:sp>
            <p:nvSpPr>
              <p:cNvPr id="523" name=""/>
              <p:cNvSpPr/>
              <p:nvPr/>
            </p:nvSpPr>
            <p:spPr>
              <a:xfrm>
                <a:off x="1495080" y="1682280"/>
                <a:ext cx="1198440" cy="557640"/>
              </a:xfrm>
              <a:prstGeom prst="rect">
                <a:avLst/>
              </a:prstGeom>
              <a:solidFill>
                <a:srgbClr val="99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1531080" y="1735920"/>
                <a:ext cx="1111680" cy="110880"/>
                <a:chOff x="1531080" y="1735920"/>
                <a:chExt cx="1111680" cy="1108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1531080" y="1735920"/>
                  <a:ext cx="1111680" cy="11088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196720" y="175392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1531080" y="1862280"/>
                <a:ext cx="1111680" cy="110880"/>
                <a:chOff x="1531080" y="1862280"/>
                <a:chExt cx="1111680" cy="1108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1531080" y="1862280"/>
                  <a:ext cx="1111680" cy="11088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196720" y="188028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531080" y="1987920"/>
                <a:ext cx="1111680" cy="215640"/>
                <a:chOff x="1531080" y="1987920"/>
                <a:chExt cx="1111680" cy="2156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531080" y="1987920"/>
                  <a:ext cx="1111680" cy="21564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196720" y="200592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196720" y="209556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4" name=""/>
            <p:cNvGrpSpPr/>
            <p:nvPr/>
          </p:nvGrpSpPr>
          <p:grpSpPr>
            <a:xfrm>
              <a:off x="1495080" y="2258640"/>
              <a:ext cx="1198440" cy="575640"/>
              <a:chOff x="1495080" y="2258640"/>
              <a:chExt cx="1198440" cy="575640"/>
            </a:xfrm>
          </p:grpSpPr>
          <p:sp>
            <p:nvSpPr>
              <p:cNvPr id="535" name=""/>
              <p:cNvSpPr/>
              <p:nvPr/>
            </p:nvSpPr>
            <p:spPr>
              <a:xfrm>
                <a:off x="1495080" y="2258640"/>
                <a:ext cx="1198440" cy="575640"/>
              </a:xfrm>
              <a:prstGeom prst="rect">
                <a:avLst/>
              </a:prstGeom>
              <a:solidFill>
                <a:srgbClr val="99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1531080" y="2294280"/>
                <a:ext cx="1111680" cy="110880"/>
                <a:chOff x="1531080" y="2294280"/>
                <a:chExt cx="1111680" cy="1108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1531080" y="2294280"/>
                  <a:ext cx="1111680" cy="11088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196720" y="231228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531080" y="2438280"/>
                <a:ext cx="1111680" cy="360000"/>
                <a:chOff x="1531080" y="2438280"/>
                <a:chExt cx="1111680" cy="36000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531080" y="2438280"/>
                  <a:ext cx="1111680" cy="36000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"/>
                <p:cNvGrpSpPr/>
                <p:nvPr/>
              </p:nvGrpSpPr>
              <p:grpSpPr>
                <a:xfrm>
                  <a:off x="1567080" y="2636280"/>
                  <a:ext cx="1025640" cy="144000"/>
                  <a:chOff x="1567080" y="2636280"/>
                  <a:chExt cx="1025640" cy="1440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1567080" y="2636280"/>
                    <a:ext cx="1025640" cy="144000"/>
                  </a:xfrm>
                  <a:prstGeom prst="rect">
                    <a:avLst/>
                  </a:prstGeom>
                  <a:solidFill>
                    <a:srgbClr val="ffff99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196360" y="2672280"/>
                    <a:ext cx="3427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1567080" y="2456280"/>
                  <a:ext cx="1025640" cy="144000"/>
                  <a:chOff x="1567080" y="2456280"/>
                  <a:chExt cx="1025640" cy="1440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567080" y="2456280"/>
                    <a:ext cx="1025640" cy="144000"/>
                  </a:xfrm>
                  <a:prstGeom prst="rect">
                    <a:avLst/>
                  </a:prstGeom>
                  <a:solidFill>
                    <a:srgbClr val="ffff99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196360" y="2492280"/>
                    <a:ext cx="3427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7" name=""/>
            <p:cNvGrpSpPr/>
            <p:nvPr/>
          </p:nvGrpSpPr>
          <p:grpSpPr>
            <a:xfrm>
              <a:off x="1495080" y="2870640"/>
              <a:ext cx="1198440" cy="180000"/>
              <a:chOff x="1495080" y="2870640"/>
              <a:chExt cx="1198440" cy="180000"/>
            </a:xfrm>
          </p:grpSpPr>
          <p:sp>
            <p:nvSpPr>
              <p:cNvPr id="548" name=""/>
              <p:cNvSpPr/>
              <p:nvPr/>
            </p:nvSpPr>
            <p:spPr>
              <a:xfrm>
                <a:off x="1495080" y="2870640"/>
                <a:ext cx="1198440" cy="180000"/>
              </a:xfrm>
              <a:prstGeom prst="rect">
                <a:avLst/>
              </a:prstGeom>
              <a:solidFill>
                <a:srgbClr val="99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1531080" y="2906640"/>
                <a:ext cx="1111680" cy="110880"/>
                <a:chOff x="1531080" y="2906640"/>
                <a:chExt cx="1111680" cy="1108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531080" y="2906640"/>
                  <a:ext cx="1111680" cy="110880"/>
                </a:xfrm>
                <a:prstGeom prst="rect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96720" y="2924640"/>
                  <a:ext cx="342720" cy="75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" name=""/>
          <p:cNvSpPr/>
          <p:nvPr/>
        </p:nvSpPr>
        <p:spPr>
          <a:xfrm>
            <a:off x="2195640" y="3567240"/>
            <a:ext cx="104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scrip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000" y="557388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cbc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M-X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885080" y="2041560"/>
            <a:ext cx="104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scrip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85080" y="3476520"/>
            <a:ext cx="12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ombined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DC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Descrip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111-7B54-4C35-8462-F5124CF1422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ew of LOM as a basic DC Application Pro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vailability of set of “LOM terms” which are usable in other DC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vailability of RDF binding of LOM “for free” via DC RDF binding (mapp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paration of LOM-DCAM translation from RDF b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rst step towards better alignment of DC and LOM abstract model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605-CBB8-4958-B220-5381450D85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ted at DC2005 in Madrid, Sep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orts to DC Education WG &amp; IEEE LTS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irs: Mikael Nilsson &amp; Jon Ma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ticipation open to al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1360" indent="-27504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iling list (~20 subscribers), Wik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1360" indent="-27504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llaborative work on draf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1360" indent="-27504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oint consens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1360" indent="-27504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-publishing of resul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im: an IEEE “Recommended Practice” and a DCMI “Recommend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245-6761-41B3-860F-2BA99260C7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rter approved by DCMI Advisory Board and IEEE LTSC S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aft PAR Scope &amp; Purpose presented to LOM WG (March 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initial outputs available for discuss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2960" indent="-38124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raft of LOM-DCAM mapp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-34308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cludes description of DC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2960" indent="-38124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ample instance based on ma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-34308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OM XM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-34308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C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2960" indent="-38124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raft of required property/class/value defin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-34308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olllowing DC “Schema Model”/Usage Board conven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5CB-5D93-4B45-A22C-695655ED0A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3662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M-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148000" y="1052280"/>
            <a:ext cx="3663720" cy="56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criptionSet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cription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urceURI ( &lt;http://purl.org/poi/rdn.ac.uk/12345-67890&gt; )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ment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ertyURI ( dc:title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ueString ( “Wilfred Owen and Realism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nguage ( en-GB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ment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ertyURI ( dc:language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ueString ( “en-GB”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ntaxEncodingSchemeURI ( dcterms:RFC3066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ment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ertyURI ( lom:keyword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cabularyEncodingSchemeURI ( a:NLS 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ueString ( "Owen, Wilfred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nguage ( en-GB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250920" y="1052640"/>
            <a:ext cx="4680000" cy="5616360"/>
          </a:xfrm>
          <a:prstGeom prst="rect">
            <a:avLst/>
          </a:prstGeom>
          <a:solidFill>
            <a:srgbClr val="cbc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lo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general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identifi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catalog&gt;URI&lt;/cat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entry&gt;http://purl.org/poi/rdn.ac.uk/12345-67890&lt;/entr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identifie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string language="en-GB"&gt;Wilfred Owen and Realism&lt;/strin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language&gt;en-GB&lt;/langu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keywor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string language="en-GB"&gt;Owen, Wilfred&lt;/string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keyword&gt;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genera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lo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8360" y="620640"/>
            <a:ext cx="36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39760" indent="-23976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C-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596-DE82-4AC0-8B63-FB6BEB80F4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her related DCMI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Expressing DC metadata using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ing Draft for public comment (June 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vised XML binding for 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Expressing DC metadata using R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ing Draft for public comment (June 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pping from DCAM to R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DC-Text: A Text Syntax for DC meta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 discussion by DC Architecture W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pdating of DCMI term 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 discussion by DC Usage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373-8FFF-4859-844E-AAC418ED91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erify mapping through mor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2960" indent="-381240">
              <a:lnSpc>
                <a:spcPct val="8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entify points of loss-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ise map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ise terms, definitions, U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ise DC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al Session at DC2006 (October, 2006, Colima, Mexic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pare docs for formal review/pub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ed into DC Education WG work on DC Ed 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ed into IEEE LTSC work on “next generation” L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F66-4E82-4C07-92DD-F23D1CDD7F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dublincore.org/educationwiki/DCMIIEEELTSCTask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DC5-832D-477D-B151-7B370B3570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1412640"/>
            <a:ext cx="6400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pdate on work o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oint DCMI/IEEE LTSC Task For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ETIS Metadata &amp; Digital Repositories SIG, UKOLN, Bat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data standards typically developed to support requirements of some community or do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urces us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munity/domain bounda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ers w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3440" indent="-27216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use component parts of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ffer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ndards i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93440" indent="-27216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re)u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mponents of other implementers’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ept of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adata application prof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(e.g. Heery/Patel, Duval et 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3440" indent="-27216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ilor standard to con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93440" indent="-27216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bine components from different standards (“mix &amp; match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6B9-E1A2-43E5-BA75-05596CE796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stract Models for Meta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 Model of metadata standard specif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ture of components and constructs used in standa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of rules for building abstract information structu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EE LOM Abstract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IS = LOM inst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elements containing other data el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af” data element values associated with datatypes (how value spaces interpret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CMI Abstract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IS = DC description s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cription = set of statements about re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8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268560">
              <a:lnSpc>
                <a:spcPct val="80000"/>
              </a:lnSpc>
              <a:spcBef>
                <a:spcPts val="524"/>
              </a:spcBef>
              <a:buClr>
                <a:srgbClr val="4961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ences to property, value, vocabulary encoding scheme, syntax encoding sche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268560">
              <a:lnSpc>
                <a:spcPct val="80000"/>
              </a:lnSpc>
              <a:spcBef>
                <a:spcPts val="524"/>
              </a:spcBef>
              <a:buClr>
                <a:srgbClr val="4961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e strings, value represen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CC5-0ACE-40C5-879C-14710A8540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stract Models &amp; Application Profi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DC and LOM have notions of “metadata application profile”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based on respective Abstrac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C Application Pro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use a set of identified properties, vocabulary encoding schemes, syntax encoding schemes to construct a DC metadata description s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M Application Pro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use a set of identified LOM data elements, datatypes, vocabularies to construct a LOM in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M conceptual data schema includes AM and a “base” application pro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896-8CAF-4B55-921B-1379681556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stract Models &amp; Bindings for Meta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tract Models are syntax-indepen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inding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scrib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abstract information structure i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rialised/encod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tadata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instances of a metadata format a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pret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 terms of abstract information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DC &amp; LOM have bindings t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 form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ever, formats interpreted in terms of different Abstract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XML element parent-child relationships have different interpretations in LOM-XML and DC-X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41E-C4C8-421B-8D93-531D3F7864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08000" y="728640"/>
            <a:ext cx="2663640" cy="647640"/>
            <a:chOff x="108000" y="728640"/>
            <a:chExt cx="2663640" cy="647640"/>
          </a:xfrm>
        </p:grpSpPr>
        <p:sp>
          <p:nvSpPr>
            <p:cNvPr id="100" name=""/>
            <p:cNvSpPr/>
            <p:nvPr/>
          </p:nvSpPr>
          <p:spPr>
            <a:xfrm>
              <a:off x="1403280" y="728640"/>
              <a:ext cx="1368360" cy="647640"/>
            </a:xfrm>
            <a:prstGeom prst="rect">
              <a:avLst/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000" y="91584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ystem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08000" y="2716200"/>
            <a:ext cx="2735280" cy="1022400"/>
            <a:chOff x="108000" y="2716200"/>
            <a:chExt cx="2735280" cy="1022400"/>
          </a:xfrm>
        </p:grpSpPr>
        <p:grpSp>
          <p:nvGrpSpPr>
            <p:cNvPr id="103" name=""/>
            <p:cNvGrpSpPr/>
            <p:nvPr/>
          </p:nvGrpSpPr>
          <p:grpSpPr>
            <a:xfrm>
              <a:off x="1332000" y="2716200"/>
              <a:ext cx="1511280" cy="1022400"/>
              <a:chOff x="1332000" y="2716200"/>
              <a:chExt cx="1511280" cy="1022400"/>
            </a:xfrm>
          </p:grpSpPr>
          <p:sp>
            <p:nvSpPr>
              <p:cNvPr id="104" name=""/>
              <p:cNvSpPr/>
              <p:nvPr/>
            </p:nvSpPr>
            <p:spPr>
              <a:xfrm>
                <a:off x="1332000" y="2716200"/>
                <a:ext cx="1511280" cy="1022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377720" y="2761920"/>
                <a:ext cx="1404360" cy="427320"/>
                <a:chOff x="1377720" y="2761920"/>
                <a:chExt cx="1404360" cy="4273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377720" y="2807640"/>
                  <a:ext cx="1404360" cy="381600"/>
                </a:xfrm>
                <a:prstGeom prst="rect">
                  <a:avLst/>
                </a:prstGeom>
                <a:solidFill>
                  <a:srgbClr val="cce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469160" y="2761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1461600" y="2853360"/>
                  <a:ext cx="1236600" cy="88920"/>
                  <a:chOff x="1461600" y="2853360"/>
                  <a:chExt cx="1236600" cy="889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1461600" y="285336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50840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4148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37456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1461600" y="2969640"/>
                  <a:ext cx="1236600" cy="88920"/>
                  <a:chOff x="1461600" y="2969640"/>
                  <a:chExt cx="1236600" cy="889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1461600" y="29696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50840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4148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37456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1461600" y="3084840"/>
                  <a:ext cx="1236600" cy="88920"/>
                  <a:chOff x="1461600" y="3084840"/>
                  <a:chExt cx="1236600" cy="889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1461600" y="30848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508400" y="30999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41480" y="30999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1377720" y="3265560"/>
                <a:ext cx="1404360" cy="427320"/>
                <a:chOff x="1377720" y="3265560"/>
                <a:chExt cx="1404360" cy="4273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377720" y="3311280"/>
                  <a:ext cx="1404360" cy="381600"/>
                </a:xfrm>
                <a:prstGeom prst="rect">
                  <a:avLst/>
                </a:prstGeom>
                <a:solidFill>
                  <a:srgbClr val="cce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469160" y="3265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1458720" y="3358800"/>
                  <a:ext cx="1236600" cy="88920"/>
                  <a:chOff x="1458720" y="3358800"/>
                  <a:chExt cx="1236600" cy="889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1458720" y="335880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50552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3860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37168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1458720" y="3475080"/>
                  <a:ext cx="1236600" cy="88920"/>
                  <a:chOff x="1458720" y="3475080"/>
                  <a:chExt cx="1236600" cy="889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1458720" y="347508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50552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3860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37168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1456200" y="3590640"/>
                  <a:ext cx="1236600" cy="88920"/>
                  <a:chOff x="1456200" y="3590640"/>
                  <a:chExt cx="1236600" cy="889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1456200" y="35906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503000" y="3605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36080" y="3605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9" name=""/>
            <p:cNvSpPr/>
            <p:nvPr/>
          </p:nvSpPr>
          <p:spPr>
            <a:xfrm>
              <a:off x="108000" y="290664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 Description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8000" y="4905360"/>
            <a:ext cx="2692080" cy="1122120"/>
            <a:chOff x="108000" y="4905360"/>
            <a:chExt cx="2692080" cy="1122120"/>
          </a:xfrm>
        </p:grpSpPr>
        <p:grpSp>
          <p:nvGrpSpPr>
            <p:cNvPr id="141" name=""/>
            <p:cNvGrpSpPr/>
            <p:nvPr/>
          </p:nvGrpSpPr>
          <p:grpSpPr>
            <a:xfrm>
              <a:off x="1374840" y="4905360"/>
              <a:ext cx="1425240" cy="1122120"/>
              <a:chOff x="1374840" y="4905360"/>
              <a:chExt cx="1425240" cy="1122120"/>
            </a:xfrm>
          </p:grpSpPr>
          <p:sp>
            <p:nvSpPr>
              <p:cNvPr id="142" name=""/>
              <p:cNvSpPr/>
              <p:nvPr/>
            </p:nvSpPr>
            <p:spPr>
              <a:xfrm>
                <a:off x="2022480" y="4905360"/>
                <a:ext cx="173160" cy="172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74840" y="555264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4692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5448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248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76520" y="555264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76520" y="585540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22480" y="555264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25240" y="555264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26920" y="555264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2" name=""/>
              <p:cNvCxnSpPr>
                <a:stCxn id="142" idx="4"/>
                <a:endCxn id="144" idx="0"/>
              </p:cNvCxnSpPr>
              <p:nvPr/>
            </p:nvCxnSpPr>
            <p:spPr>
              <a:xfrm flipH="1">
                <a:off x="1632960" y="5077440"/>
                <a:ext cx="47556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3" name=""/>
              <p:cNvCxnSpPr>
                <a:stCxn id="142" idx="4"/>
                <a:endCxn id="146" idx="0"/>
              </p:cNvCxnSpPr>
              <p:nvPr/>
            </p:nvCxnSpPr>
            <p:spPr>
              <a:xfrm>
                <a:off x="2108520" y="5077440"/>
                <a:ext cx="108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142" idx="4"/>
                <a:endCxn id="145" idx="0"/>
              </p:cNvCxnSpPr>
              <p:nvPr/>
            </p:nvCxnSpPr>
            <p:spPr>
              <a:xfrm>
                <a:off x="2108880" y="5077440"/>
                <a:ext cx="43272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144" idx="4"/>
                <a:endCxn id="147" idx="0"/>
              </p:cNvCxnSpPr>
              <p:nvPr/>
            </p:nvCxnSpPr>
            <p:spPr>
              <a:xfrm>
                <a:off x="1633320" y="542268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4" idx="4"/>
                <a:endCxn id="143" idx="0"/>
              </p:cNvCxnSpPr>
              <p:nvPr/>
            </p:nvCxnSpPr>
            <p:spPr>
              <a:xfrm flipH="1">
                <a:off x="1461240" y="5422680"/>
                <a:ext cx="17280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6" idx="4"/>
                <a:endCxn id="149" idx="0"/>
              </p:cNvCxnSpPr>
              <p:nvPr/>
            </p:nvCxnSpPr>
            <p:spPr>
              <a:xfrm>
                <a:off x="2108520" y="5422680"/>
                <a:ext cx="108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45" idx="4"/>
                <a:endCxn id="151" idx="0"/>
              </p:cNvCxnSpPr>
              <p:nvPr/>
            </p:nvCxnSpPr>
            <p:spPr>
              <a:xfrm>
                <a:off x="2541240" y="5422680"/>
                <a:ext cx="17280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45" idx="4"/>
                <a:endCxn id="150" idx="0"/>
              </p:cNvCxnSpPr>
              <p:nvPr/>
            </p:nvCxnSpPr>
            <p:spPr>
              <a:xfrm flipH="1">
                <a:off x="2410920" y="542268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47" idx="4"/>
                <a:endCxn id="148" idx="0"/>
              </p:cNvCxnSpPr>
              <p:nvPr/>
            </p:nvCxnSpPr>
            <p:spPr>
              <a:xfrm>
                <a:off x="1762920" y="572508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1" name=""/>
            <p:cNvSpPr/>
            <p:nvPr/>
          </p:nvSpPr>
          <p:spPr>
            <a:xfrm>
              <a:off x="108000" y="523728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-XM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08000" y="4005360"/>
            <a:ext cx="2124000" cy="641520"/>
            <a:chOff x="108000" y="4005360"/>
            <a:chExt cx="2124000" cy="641520"/>
          </a:xfrm>
        </p:grpSpPr>
        <p:sp>
          <p:nvSpPr>
            <p:cNvPr id="163" name=""/>
            <p:cNvSpPr/>
            <p:nvPr/>
          </p:nvSpPr>
          <p:spPr>
            <a:xfrm>
              <a:off x="1944720" y="4181400"/>
              <a:ext cx="287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8000" y="400536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Encode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B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8000" y="1700280"/>
            <a:ext cx="2122560" cy="824040"/>
            <a:chOff x="108000" y="1700280"/>
            <a:chExt cx="2122560" cy="824040"/>
          </a:xfrm>
        </p:grpSpPr>
        <p:sp>
          <p:nvSpPr>
            <p:cNvPr id="166" name=""/>
            <p:cNvSpPr/>
            <p:nvPr/>
          </p:nvSpPr>
          <p:spPr>
            <a:xfrm>
              <a:off x="1943280" y="1967040"/>
              <a:ext cx="287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8000" y="1700280"/>
              <a:ext cx="104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Construct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AM &amp; DC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622920" y="4005360"/>
            <a:ext cx="2087640" cy="641520"/>
            <a:chOff x="6622920" y="4005360"/>
            <a:chExt cx="2087640" cy="641520"/>
          </a:xfrm>
        </p:grpSpPr>
        <p:sp>
          <p:nvSpPr>
            <p:cNvPr id="169" name=""/>
            <p:cNvSpPr/>
            <p:nvPr/>
          </p:nvSpPr>
          <p:spPr>
            <a:xfrm>
              <a:off x="6622920" y="4181400"/>
              <a:ext cx="289080" cy="28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67640" y="400536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ecode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B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12000" y="2716200"/>
            <a:ext cx="2700360" cy="1022400"/>
            <a:chOff x="6012000" y="2716200"/>
            <a:chExt cx="2700360" cy="1022400"/>
          </a:xfrm>
        </p:grpSpPr>
        <p:sp>
          <p:nvSpPr>
            <p:cNvPr id="172" name=""/>
            <p:cNvSpPr/>
            <p:nvPr/>
          </p:nvSpPr>
          <p:spPr>
            <a:xfrm>
              <a:off x="7669080" y="2906640"/>
              <a:ext cx="1043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 Description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012000" y="2716200"/>
              <a:ext cx="1511280" cy="1022400"/>
              <a:chOff x="6012000" y="2716200"/>
              <a:chExt cx="1511280" cy="1022400"/>
            </a:xfrm>
          </p:grpSpPr>
          <p:sp>
            <p:nvSpPr>
              <p:cNvPr id="174" name=""/>
              <p:cNvSpPr/>
              <p:nvPr/>
            </p:nvSpPr>
            <p:spPr>
              <a:xfrm>
                <a:off x="6012000" y="2716200"/>
                <a:ext cx="1511280" cy="1022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6057720" y="2761920"/>
                <a:ext cx="1404360" cy="427320"/>
                <a:chOff x="6057720" y="2761920"/>
                <a:chExt cx="1404360" cy="427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057720" y="2807640"/>
                  <a:ext cx="1404360" cy="381600"/>
                </a:xfrm>
                <a:prstGeom prst="rect">
                  <a:avLst/>
                </a:prstGeom>
                <a:solidFill>
                  <a:srgbClr val="cce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49160" y="276192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6141600" y="2853360"/>
                  <a:ext cx="1236600" cy="88920"/>
                  <a:chOff x="6141600" y="2853360"/>
                  <a:chExt cx="1236600" cy="889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141600" y="285336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18840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62148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054560" y="286848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141600" y="2969640"/>
                  <a:ext cx="1236600" cy="88920"/>
                  <a:chOff x="6141600" y="2969640"/>
                  <a:chExt cx="1236600" cy="889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6141600" y="29696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18840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62148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054560" y="2984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141600" y="3084840"/>
                  <a:ext cx="1236600" cy="88920"/>
                  <a:chOff x="6141600" y="3084840"/>
                  <a:chExt cx="1236600" cy="889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141600" y="30848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188400" y="30999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621480" y="30999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6057720" y="3265560"/>
                <a:ext cx="1404360" cy="427320"/>
                <a:chOff x="6057720" y="3265560"/>
                <a:chExt cx="1404360" cy="427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057720" y="3311280"/>
                  <a:ext cx="1404360" cy="381600"/>
                </a:xfrm>
                <a:prstGeom prst="rect">
                  <a:avLst/>
                </a:prstGeom>
                <a:solidFill>
                  <a:srgbClr val="cce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49160" y="3265560"/>
                  <a:ext cx="274680" cy="6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8720" y="3358800"/>
                  <a:ext cx="1236600" cy="88920"/>
                  <a:chOff x="6138720" y="3358800"/>
                  <a:chExt cx="1236600" cy="889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138720" y="335880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8552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61860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051680" y="337392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38720" y="3475080"/>
                  <a:ext cx="1236600" cy="88920"/>
                  <a:chOff x="6138720" y="3475080"/>
                  <a:chExt cx="1236600" cy="889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6138720" y="347508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18552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61860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051680" y="349020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136200" y="3590640"/>
                  <a:ext cx="1236600" cy="88920"/>
                  <a:chOff x="6136200" y="3590640"/>
                  <a:chExt cx="1236600" cy="889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6136200" y="3590640"/>
                    <a:ext cx="1236600" cy="8892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183000" y="3605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616080" y="3605760"/>
                    <a:ext cx="2746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9" name=""/>
          <p:cNvGrpSpPr/>
          <p:nvPr/>
        </p:nvGrpSpPr>
        <p:grpSpPr>
          <a:xfrm>
            <a:off x="6622920" y="1790640"/>
            <a:ext cx="2087640" cy="641520"/>
            <a:chOff x="6622920" y="1790640"/>
            <a:chExt cx="2087640" cy="641520"/>
          </a:xfrm>
        </p:grpSpPr>
        <p:sp>
          <p:nvSpPr>
            <p:cNvPr id="210" name=""/>
            <p:cNvSpPr/>
            <p:nvPr/>
          </p:nvSpPr>
          <p:spPr>
            <a:xfrm>
              <a:off x="7667640" y="179064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terpret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2920" y="1967040"/>
              <a:ext cx="289080" cy="28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83280" y="728640"/>
            <a:ext cx="2629080" cy="647640"/>
            <a:chOff x="6083280" y="728640"/>
            <a:chExt cx="2629080" cy="647640"/>
          </a:xfrm>
        </p:grpSpPr>
        <p:sp>
          <p:nvSpPr>
            <p:cNvPr id="213" name=""/>
            <p:cNvSpPr/>
            <p:nvPr/>
          </p:nvSpPr>
          <p:spPr>
            <a:xfrm>
              <a:off x="6083280" y="728640"/>
              <a:ext cx="1368360" cy="647640"/>
            </a:xfrm>
            <a:prstGeom prst="rect">
              <a:avLst/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0720" y="91584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ystem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054840" y="4905360"/>
            <a:ext cx="2655720" cy="1122120"/>
            <a:chOff x="6054840" y="4905360"/>
            <a:chExt cx="2655720" cy="1122120"/>
          </a:xfrm>
        </p:grpSpPr>
        <p:grpSp>
          <p:nvGrpSpPr>
            <p:cNvPr id="216" name=""/>
            <p:cNvGrpSpPr/>
            <p:nvPr/>
          </p:nvGrpSpPr>
          <p:grpSpPr>
            <a:xfrm>
              <a:off x="6054840" y="4905360"/>
              <a:ext cx="1425240" cy="1122120"/>
              <a:chOff x="6054840" y="4905360"/>
              <a:chExt cx="1425240" cy="1122120"/>
            </a:xfrm>
          </p:grpSpPr>
          <p:sp>
            <p:nvSpPr>
              <p:cNvPr id="217" name=""/>
              <p:cNvSpPr/>
              <p:nvPr/>
            </p:nvSpPr>
            <p:spPr>
              <a:xfrm>
                <a:off x="6702480" y="4905360"/>
                <a:ext cx="173160" cy="172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54840" y="555264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2692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3448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02480" y="52509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56520" y="555264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56520" y="585540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02480" y="555264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05240" y="555264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06920" y="555264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"/>
              <p:cNvCxnSpPr>
                <a:stCxn id="217" idx="4"/>
                <a:endCxn id="219" idx="0"/>
              </p:cNvCxnSpPr>
              <p:nvPr/>
            </p:nvCxnSpPr>
            <p:spPr>
              <a:xfrm flipH="1">
                <a:off x="6312960" y="5077440"/>
                <a:ext cx="47556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8" name=""/>
              <p:cNvCxnSpPr>
                <a:stCxn id="217" idx="4"/>
                <a:endCxn id="221" idx="0"/>
              </p:cNvCxnSpPr>
              <p:nvPr/>
            </p:nvCxnSpPr>
            <p:spPr>
              <a:xfrm>
                <a:off x="6788520" y="5077440"/>
                <a:ext cx="108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9" name=""/>
              <p:cNvCxnSpPr>
                <a:stCxn id="217" idx="4"/>
                <a:endCxn id="220" idx="0"/>
              </p:cNvCxnSpPr>
              <p:nvPr/>
            </p:nvCxnSpPr>
            <p:spPr>
              <a:xfrm>
                <a:off x="6788880" y="5077440"/>
                <a:ext cx="43272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0" name=""/>
              <p:cNvCxnSpPr>
                <a:stCxn id="219" idx="4"/>
                <a:endCxn id="222" idx="0"/>
              </p:cNvCxnSpPr>
              <p:nvPr/>
            </p:nvCxnSpPr>
            <p:spPr>
              <a:xfrm>
                <a:off x="6313320" y="542268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"/>
              <p:cNvCxnSpPr>
                <a:stCxn id="219" idx="4"/>
                <a:endCxn id="218" idx="0"/>
              </p:cNvCxnSpPr>
              <p:nvPr/>
            </p:nvCxnSpPr>
            <p:spPr>
              <a:xfrm flipH="1">
                <a:off x="6141240" y="5422680"/>
                <a:ext cx="17280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2" name=""/>
              <p:cNvCxnSpPr>
                <a:stCxn id="221" idx="4"/>
                <a:endCxn id="224" idx="0"/>
              </p:cNvCxnSpPr>
              <p:nvPr/>
            </p:nvCxnSpPr>
            <p:spPr>
              <a:xfrm>
                <a:off x="6788520" y="5422680"/>
                <a:ext cx="108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3" name=""/>
              <p:cNvCxnSpPr>
                <a:stCxn id="220" idx="4"/>
                <a:endCxn id="226" idx="0"/>
              </p:cNvCxnSpPr>
              <p:nvPr/>
            </p:nvCxnSpPr>
            <p:spPr>
              <a:xfrm>
                <a:off x="7221240" y="5422680"/>
                <a:ext cx="17280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4" name=""/>
              <p:cNvCxnSpPr>
                <a:stCxn id="220" idx="4"/>
                <a:endCxn id="225" idx="0"/>
              </p:cNvCxnSpPr>
              <p:nvPr/>
            </p:nvCxnSpPr>
            <p:spPr>
              <a:xfrm flipH="1">
                <a:off x="7090920" y="542268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5" name=""/>
              <p:cNvCxnSpPr>
                <a:stCxn id="222" idx="4"/>
                <a:endCxn id="223" idx="0"/>
              </p:cNvCxnSpPr>
              <p:nvPr/>
            </p:nvCxnSpPr>
            <p:spPr>
              <a:xfrm>
                <a:off x="6442920" y="572508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6" name=""/>
            <p:cNvSpPr/>
            <p:nvPr/>
          </p:nvSpPr>
          <p:spPr>
            <a:xfrm>
              <a:off x="7667640" y="523728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C-XM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635280" y="5322960"/>
            <a:ext cx="1656000" cy="1130400"/>
            <a:chOff x="3635280" y="5322960"/>
            <a:chExt cx="1656000" cy="1130400"/>
          </a:xfrm>
        </p:grpSpPr>
        <p:sp>
          <p:nvSpPr>
            <p:cNvPr id="238" name=""/>
            <p:cNvSpPr/>
            <p:nvPr/>
          </p:nvSpPr>
          <p:spPr>
            <a:xfrm>
              <a:off x="3635280" y="5322960"/>
              <a:ext cx="1656000" cy="287280"/>
            </a:xfrm>
            <a:prstGeom prst="rightArrow">
              <a:avLst>
                <a:gd name="adj1" fmla="val 50000"/>
                <a:gd name="adj2" fmla="val 14411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08360" y="5805360"/>
              <a:ext cx="1368360" cy="648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&lt;?xml version="1.0"?&gt;</a:t>
              </a:r>
              <a:br>
                <a:rPr sz="800"/>
              </a:b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&lt;dcx:descriptionSet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BB2-0777-4D49-972B-468CBEC03AB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08000" y="728640"/>
            <a:ext cx="2663640" cy="647640"/>
            <a:chOff x="108000" y="728640"/>
            <a:chExt cx="2663640" cy="647640"/>
          </a:xfrm>
        </p:grpSpPr>
        <p:sp>
          <p:nvSpPr>
            <p:cNvPr id="241" name=""/>
            <p:cNvSpPr/>
            <p:nvPr/>
          </p:nvSpPr>
          <p:spPr>
            <a:xfrm>
              <a:off x="1403280" y="728640"/>
              <a:ext cx="1368360" cy="647640"/>
            </a:xfrm>
            <a:prstGeom prst="rect">
              <a:avLst/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8000" y="91584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ystem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08000" y="4005360"/>
            <a:ext cx="2124000" cy="641520"/>
            <a:chOff x="108000" y="4005360"/>
            <a:chExt cx="2124000" cy="641520"/>
          </a:xfrm>
        </p:grpSpPr>
        <p:sp>
          <p:nvSpPr>
            <p:cNvPr id="244" name=""/>
            <p:cNvSpPr/>
            <p:nvPr/>
          </p:nvSpPr>
          <p:spPr>
            <a:xfrm>
              <a:off x="1944720" y="4181400"/>
              <a:ext cx="287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8000" y="400536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Encode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B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08000" y="1700280"/>
            <a:ext cx="2122560" cy="824040"/>
            <a:chOff x="108000" y="1700280"/>
            <a:chExt cx="2122560" cy="824040"/>
          </a:xfrm>
        </p:grpSpPr>
        <p:sp>
          <p:nvSpPr>
            <p:cNvPr id="247" name=""/>
            <p:cNvSpPr/>
            <p:nvPr/>
          </p:nvSpPr>
          <p:spPr>
            <a:xfrm>
              <a:off x="1943280" y="1967040"/>
              <a:ext cx="287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700280"/>
              <a:ext cx="104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Construct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 AM &amp; LOM 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622920" y="4005360"/>
            <a:ext cx="2087640" cy="641520"/>
            <a:chOff x="6622920" y="4005360"/>
            <a:chExt cx="2087640" cy="641520"/>
          </a:xfrm>
        </p:grpSpPr>
        <p:sp>
          <p:nvSpPr>
            <p:cNvPr id="250" name=""/>
            <p:cNvSpPr/>
            <p:nvPr/>
          </p:nvSpPr>
          <p:spPr>
            <a:xfrm>
              <a:off x="6622920" y="4181400"/>
              <a:ext cx="289080" cy="28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67640" y="400536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Decode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B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22920" y="1790640"/>
            <a:ext cx="2087640" cy="641520"/>
            <a:chOff x="6622920" y="1790640"/>
            <a:chExt cx="2087640" cy="641520"/>
          </a:xfrm>
        </p:grpSpPr>
        <p:sp>
          <p:nvSpPr>
            <p:cNvPr id="253" name=""/>
            <p:cNvSpPr/>
            <p:nvPr/>
          </p:nvSpPr>
          <p:spPr>
            <a:xfrm>
              <a:off x="7667640" y="1790640"/>
              <a:ext cx="104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terpret using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 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22920" y="1967040"/>
              <a:ext cx="289080" cy="28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083280" y="728640"/>
            <a:ext cx="2629080" cy="647640"/>
            <a:chOff x="6083280" y="728640"/>
            <a:chExt cx="2629080" cy="647640"/>
          </a:xfrm>
        </p:grpSpPr>
        <p:sp>
          <p:nvSpPr>
            <p:cNvPr id="256" name=""/>
            <p:cNvSpPr/>
            <p:nvPr/>
          </p:nvSpPr>
          <p:spPr>
            <a:xfrm>
              <a:off x="6083280" y="728640"/>
              <a:ext cx="1368360" cy="647640"/>
            </a:xfrm>
            <a:prstGeom prst="rect">
              <a:avLst/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40720" y="91584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System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635280" y="5322960"/>
            <a:ext cx="1656000" cy="1130400"/>
            <a:chOff x="3635280" y="5322960"/>
            <a:chExt cx="1656000" cy="1130400"/>
          </a:xfrm>
        </p:grpSpPr>
        <p:sp>
          <p:nvSpPr>
            <p:cNvPr id="259" name=""/>
            <p:cNvSpPr/>
            <p:nvPr/>
          </p:nvSpPr>
          <p:spPr>
            <a:xfrm>
              <a:off x="3635280" y="5322960"/>
              <a:ext cx="1656000" cy="287280"/>
            </a:xfrm>
            <a:prstGeom prst="rightArrow">
              <a:avLst>
                <a:gd name="adj1" fmla="val 50000"/>
                <a:gd name="adj2" fmla="val 144110"/>
              </a:avLst>
            </a:prstGeom>
            <a:solidFill>
              <a:srgbClr val="cbcf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5805360"/>
              <a:ext cx="1368360" cy="648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&lt;?xml version="1.0"?&gt;</a:t>
              </a:r>
              <a:br>
                <a:rPr sz="800"/>
              </a:b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&lt;lom:LOM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08000" y="2529000"/>
            <a:ext cx="2590920" cy="1463400"/>
            <a:chOff x="108000" y="2529000"/>
            <a:chExt cx="2590920" cy="1463400"/>
          </a:xfrm>
        </p:grpSpPr>
        <p:sp>
          <p:nvSpPr>
            <p:cNvPr id="262" name=""/>
            <p:cNvSpPr/>
            <p:nvPr/>
          </p:nvSpPr>
          <p:spPr>
            <a:xfrm>
              <a:off x="108000" y="303228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403280" y="2529000"/>
              <a:ext cx="1295640" cy="1463400"/>
              <a:chOff x="1403280" y="2529000"/>
              <a:chExt cx="1295640" cy="1463400"/>
            </a:xfrm>
          </p:grpSpPr>
          <p:sp>
            <p:nvSpPr>
              <p:cNvPr id="264" name=""/>
              <p:cNvSpPr/>
              <p:nvPr/>
            </p:nvSpPr>
            <p:spPr>
              <a:xfrm>
                <a:off x="1403280" y="2529000"/>
                <a:ext cx="1295640" cy="1463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1439280" y="2582640"/>
                <a:ext cx="1198800" cy="557640"/>
                <a:chOff x="1439280" y="2582640"/>
                <a:chExt cx="1198800" cy="5576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439280" y="2582640"/>
                  <a:ext cx="1198800" cy="55764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1475280" y="2636280"/>
                  <a:ext cx="1112040" cy="110880"/>
                  <a:chOff x="1475280" y="2636280"/>
                  <a:chExt cx="1112040" cy="11088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475280" y="2636280"/>
                    <a:ext cx="111204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140920" y="265428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1475280" y="2762640"/>
                  <a:ext cx="1112040" cy="110880"/>
                  <a:chOff x="1475280" y="2762640"/>
                  <a:chExt cx="1112040" cy="1108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475280" y="2762640"/>
                    <a:ext cx="111204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140920" y="2780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1475280" y="2888280"/>
                  <a:ext cx="1112040" cy="215640"/>
                  <a:chOff x="1475280" y="2888280"/>
                  <a:chExt cx="1112040" cy="21564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1475280" y="2888280"/>
                    <a:ext cx="1112040" cy="21564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140920" y="290628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140920" y="299592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439280" y="3159000"/>
                <a:ext cx="1198800" cy="575640"/>
                <a:chOff x="1439280" y="3159000"/>
                <a:chExt cx="1198800" cy="5756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439280" y="3159000"/>
                  <a:ext cx="1198800" cy="57564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1475280" y="3194640"/>
                  <a:ext cx="1112040" cy="110880"/>
                  <a:chOff x="1475280" y="3194640"/>
                  <a:chExt cx="1112040" cy="1108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475280" y="3194640"/>
                    <a:ext cx="111204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140920" y="3212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475280" y="3338640"/>
                  <a:ext cx="1112040" cy="360000"/>
                  <a:chOff x="1475280" y="3338640"/>
                  <a:chExt cx="1112040" cy="3600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1475280" y="3338640"/>
                    <a:ext cx="1112040" cy="36000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1511280" y="3536640"/>
                    <a:ext cx="1026000" cy="144000"/>
                    <a:chOff x="1511280" y="3536640"/>
                    <a:chExt cx="1026000" cy="14400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1511280" y="3536640"/>
                      <a:ext cx="1026000" cy="1440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2140920" y="3572640"/>
                      <a:ext cx="3427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1511280" y="3356640"/>
                    <a:ext cx="1026000" cy="144000"/>
                    <a:chOff x="1511280" y="3356640"/>
                    <a:chExt cx="1026000" cy="14400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511280" y="3356640"/>
                      <a:ext cx="1026000" cy="1440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140920" y="3392640"/>
                      <a:ext cx="3427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1439280" y="3770640"/>
                <a:ext cx="1198800" cy="180000"/>
                <a:chOff x="1439280" y="3770640"/>
                <a:chExt cx="1198800" cy="180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39280" y="3770640"/>
                  <a:ext cx="1198800" cy="18000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1475280" y="3806640"/>
                  <a:ext cx="1112040" cy="110880"/>
                  <a:chOff x="1475280" y="3806640"/>
                  <a:chExt cx="1112040" cy="1108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475280" y="3806640"/>
                    <a:ext cx="111204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140920" y="3824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95" name=""/>
          <p:cNvGrpSpPr/>
          <p:nvPr/>
        </p:nvGrpSpPr>
        <p:grpSpPr>
          <a:xfrm>
            <a:off x="6156360" y="2529000"/>
            <a:ext cx="2556000" cy="1463400"/>
            <a:chOff x="6156360" y="2529000"/>
            <a:chExt cx="2556000" cy="1463400"/>
          </a:xfrm>
        </p:grpSpPr>
        <p:sp>
          <p:nvSpPr>
            <p:cNvPr id="296" name=""/>
            <p:cNvSpPr/>
            <p:nvPr/>
          </p:nvSpPr>
          <p:spPr>
            <a:xfrm>
              <a:off x="7669080" y="3032280"/>
              <a:ext cx="104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156360" y="2529000"/>
              <a:ext cx="1295280" cy="1463400"/>
              <a:chOff x="6156360" y="2529000"/>
              <a:chExt cx="1295280" cy="1463400"/>
            </a:xfrm>
          </p:grpSpPr>
          <p:sp>
            <p:nvSpPr>
              <p:cNvPr id="298" name=""/>
              <p:cNvSpPr/>
              <p:nvPr/>
            </p:nvSpPr>
            <p:spPr>
              <a:xfrm>
                <a:off x="6156360" y="2529000"/>
                <a:ext cx="1295280" cy="1463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6192360" y="2582640"/>
                <a:ext cx="1198440" cy="557640"/>
                <a:chOff x="6192360" y="2582640"/>
                <a:chExt cx="1198440" cy="557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192360" y="2582640"/>
                  <a:ext cx="1198440" cy="55764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6228360" y="2636280"/>
                  <a:ext cx="1111680" cy="110880"/>
                  <a:chOff x="6228360" y="2636280"/>
                  <a:chExt cx="1111680" cy="11088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6228360" y="2636280"/>
                    <a:ext cx="111168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6894000" y="265428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6228360" y="2762640"/>
                  <a:ext cx="1111680" cy="110880"/>
                  <a:chOff x="6228360" y="2762640"/>
                  <a:chExt cx="1111680" cy="1108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6228360" y="2762640"/>
                    <a:ext cx="111168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6894000" y="2780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6228360" y="2888280"/>
                  <a:ext cx="1111680" cy="215640"/>
                  <a:chOff x="6228360" y="2888280"/>
                  <a:chExt cx="1111680" cy="2156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6228360" y="2888280"/>
                    <a:ext cx="1111680" cy="21564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894000" y="290628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894000" y="299592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6192360" y="3159000"/>
                <a:ext cx="1198440" cy="575640"/>
                <a:chOff x="6192360" y="3159000"/>
                <a:chExt cx="1198440" cy="575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192360" y="3159000"/>
                  <a:ext cx="1198440" cy="57564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6228360" y="3194640"/>
                  <a:ext cx="1111680" cy="110880"/>
                  <a:chOff x="6228360" y="3194640"/>
                  <a:chExt cx="1111680" cy="110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6228360" y="3194640"/>
                    <a:ext cx="111168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894000" y="3212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6228360" y="3338640"/>
                  <a:ext cx="1111680" cy="360000"/>
                  <a:chOff x="6228360" y="3338640"/>
                  <a:chExt cx="1111680" cy="3600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6228360" y="3338640"/>
                    <a:ext cx="1111680" cy="36000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6264360" y="3536640"/>
                    <a:ext cx="1025640" cy="144000"/>
                    <a:chOff x="6264360" y="3536640"/>
                    <a:chExt cx="1025640" cy="1440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264360" y="3536640"/>
                      <a:ext cx="1025640" cy="1440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6893640" y="3572640"/>
                      <a:ext cx="3427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6264360" y="3356640"/>
                    <a:ext cx="1025640" cy="144000"/>
                    <a:chOff x="6264360" y="3356640"/>
                    <a:chExt cx="1025640" cy="14400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6264360" y="3356640"/>
                      <a:ext cx="1025640" cy="1440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893640" y="3392640"/>
                      <a:ext cx="3427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6192360" y="3770640"/>
                <a:ext cx="1198440" cy="180000"/>
                <a:chOff x="6192360" y="3770640"/>
                <a:chExt cx="1198440" cy="1800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192360" y="3770640"/>
                  <a:ext cx="1198440" cy="180000"/>
                </a:xfrm>
                <a:prstGeom prst="rect">
                  <a:avLst/>
                </a:prstGeom>
                <a:solidFill>
                  <a:srgbClr val="99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6" name=""/>
                <p:cNvGrpSpPr/>
                <p:nvPr/>
              </p:nvGrpSpPr>
              <p:grpSpPr>
                <a:xfrm>
                  <a:off x="6228360" y="3806640"/>
                  <a:ext cx="1111680" cy="110880"/>
                  <a:chOff x="6228360" y="3806640"/>
                  <a:chExt cx="1111680" cy="1108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6228360" y="3806640"/>
                    <a:ext cx="1111680" cy="110880"/>
                  </a:xfrm>
                  <a:prstGeom prst="rect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894000" y="3824640"/>
                    <a:ext cx="342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9" name=""/>
          <p:cNvGrpSpPr/>
          <p:nvPr/>
        </p:nvGrpSpPr>
        <p:grpSpPr>
          <a:xfrm>
            <a:off x="108000" y="4967280"/>
            <a:ext cx="2835000" cy="1122120"/>
            <a:chOff x="108000" y="4967280"/>
            <a:chExt cx="2835000" cy="1122120"/>
          </a:xfrm>
        </p:grpSpPr>
        <p:sp>
          <p:nvSpPr>
            <p:cNvPr id="330" name=""/>
            <p:cNvSpPr/>
            <p:nvPr/>
          </p:nvSpPr>
          <p:spPr>
            <a:xfrm>
              <a:off x="108000" y="530064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-XM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258920" y="4967280"/>
              <a:ext cx="1684080" cy="1122120"/>
              <a:chOff x="1258920" y="4967280"/>
              <a:chExt cx="1684080" cy="1122120"/>
            </a:xfrm>
          </p:grpSpPr>
          <p:sp>
            <p:nvSpPr>
              <p:cNvPr id="332" name=""/>
              <p:cNvSpPr/>
              <p:nvPr/>
            </p:nvSpPr>
            <p:spPr>
              <a:xfrm>
                <a:off x="1992600" y="4967280"/>
                <a:ext cx="172800" cy="172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58920" y="5614560"/>
                <a:ext cx="17280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88160" y="531288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97040" y="531288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92600" y="531288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561320" y="56145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6132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863000" y="5917320"/>
                <a:ext cx="17280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67440" y="591732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6984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2" name=""/>
              <p:cNvCxnSpPr>
                <a:stCxn id="332" idx="4"/>
                <a:endCxn id="334" idx="0"/>
              </p:cNvCxnSpPr>
              <p:nvPr/>
            </p:nvCxnSpPr>
            <p:spPr>
              <a:xfrm flipH="1">
                <a:off x="1474560" y="5139360"/>
                <a:ext cx="60480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3" name=""/>
              <p:cNvCxnSpPr>
                <a:stCxn id="332" idx="4"/>
                <a:endCxn id="336" idx="0"/>
              </p:cNvCxnSpPr>
              <p:nvPr/>
            </p:nvCxnSpPr>
            <p:spPr>
              <a:xfrm>
                <a:off x="2078640" y="5139360"/>
                <a:ext cx="108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4" name=""/>
              <p:cNvCxnSpPr>
                <a:stCxn id="332" idx="4"/>
                <a:endCxn id="335" idx="0"/>
              </p:cNvCxnSpPr>
              <p:nvPr/>
            </p:nvCxnSpPr>
            <p:spPr>
              <a:xfrm>
                <a:off x="2079000" y="5139360"/>
                <a:ext cx="60480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5" name=""/>
              <p:cNvCxnSpPr>
                <a:stCxn id="334" idx="4"/>
                <a:endCxn id="337" idx="0"/>
              </p:cNvCxnSpPr>
              <p:nvPr/>
            </p:nvCxnSpPr>
            <p:spPr>
              <a:xfrm>
                <a:off x="1474920" y="5484600"/>
                <a:ext cx="17352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"/>
              <p:cNvCxnSpPr>
                <a:stCxn id="334" idx="4"/>
                <a:endCxn id="333" idx="0"/>
              </p:cNvCxnSpPr>
              <p:nvPr/>
            </p:nvCxnSpPr>
            <p:spPr>
              <a:xfrm flipH="1">
                <a:off x="134460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7" name=""/>
              <p:cNvCxnSpPr>
                <a:stCxn id="337" idx="4"/>
                <a:endCxn id="338" idx="0"/>
              </p:cNvCxnSpPr>
              <p:nvPr/>
            </p:nvCxnSpPr>
            <p:spPr>
              <a:xfrm>
                <a:off x="164736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48" name=""/>
              <p:cNvSpPr/>
              <p:nvPr/>
            </p:nvSpPr>
            <p:spPr>
              <a:xfrm>
                <a:off x="1863000" y="561456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21840" y="56145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97040" y="561456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12184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2" name=""/>
              <p:cNvCxnSpPr>
                <a:stCxn id="348" idx="4"/>
                <a:endCxn id="339" idx="0"/>
              </p:cNvCxnSpPr>
              <p:nvPr/>
            </p:nvCxnSpPr>
            <p:spPr>
              <a:xfrm>
                <a:off x="194940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3" name=""/>
              <p:cNvCxnSpPr>
                <a:stCxn id="349" idx="4"/>
                <a:endCxn id="351" idx="0"/>
              </p:cNvCxnSpPr>
              <p:nvPr/>
            </p:nvCxnSpPr>
            <p:spPr>
              <a:xfrm>
                <a:off x="220824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0" idx="4"/>
                <a:endCxn id="340" idx="0"/>
              </p:cNvCxnSpPr>
              <p:nvPr/>
            </p:nvCxnSpPr>
            <p:spPr>
              <a:xfrm flipH="1">
                <a:off x="2553120" y="5787000"/>
                <a:ext cx="12996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5" name=""/>
              <p:cNvCxnSpPr>
                <a:stCxn id="350" idx="4"/>
                <a:endCxn id="341" idx="0"/>
              </p:cNvCxnSpPr>
              <p:nvPr/>
            </p:nvCxnSpPr>
            <p:spPr>
              <a:xfrm>
                <a:off x="2683080" y="5787000"/>
                <a:ext cx="1738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6" name=""/>
              <p:cNvCxnSpPr>
                <a:stCxn id="336" idx="4"/>
                <a:endCxn id="348" idx="0"/>
              </p:cNvCxnSpPr>
              <p:nvPr/>
            </p:nvCxnSpPr>
            <p:spPr>
              <a:xfrm flipH="1">
                <a:off x="194904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7" name=""/>
              <p:cNvCxnSpPr>
                <a:stCxn id="336" idx="4"/>
                <a:endCxn id="349" idx="0"/>
              </p:cNvCxnSpPr>
              <p:nvPr/>
            </p:nvCxnSpPr>
            <p:spPr>
              <a:xfrm>
                <a:off x="207864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8" name=""/>
              <p:cNvCxnSpPr>
                <a:stCxn id="335" idx="4"/>
                <a:endCxn id="350" idx="0"/>
              </p:cNvCxnSpPr>
              <p:nvPr/>
            </p:nvCxnSpPr>
            <p:spPr>
              <a:xfrm>
                <a:off x="2683080" y="5484600"/>
                <a:ext cx="108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59" name=""/>
          <p:cNvGrpSpPr/>
          <p:nvPr/>
        </p:nvGrpSpPr>
        <p:grpSpPr>
          <a:xfrm>
            <a:off x="5940360" y="4967280"/>
            <a:ext cx="2770200" cy="1122120"/>
            <a:chOff x="5940360" y="4967280"/>
            <a:chExt cx="2770200" cy="1122120"/>
          </a:xfrm>
        </p:grpSpPr>
        <p:sp>
          <p:nvSpPr>
            <p:cNvPr id="360" name=""/>
            <p:cNvSpPr/>
            <p:nvPr/>
          </p:nvSpPr>
          <p:spPr>
            <a:xfrm>
              <a:off x="7667640" y="5300640"/>
              <a:ext cx="10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LOM-XM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940360" y="4967280"/>
              <a:ext cx="1684080" cy="1122120"/>
              <a:chOff x="5940360" y="4967280"/>
              <a:chExt cx="1684080" cy="1122120"/>
            </a:xfrm>
          </p:grpSpPr>
          <p:sp>
            <p:nvSpPr>
              <p:cNvPr id="362" name=""/>
              <p:cNvSpPr/>
              <p:nvPr/>
            </p:nvSpPr>
            <p:spPr>
              <a:xfrm>
                <a:off x="6674040" y="4967280"/>
                <a:ext cx="172800" cy="172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40360" y="5614560"/>
                <a:ext cx="17280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69600" y="531288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78480" y="531288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74040" y="531288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42760" y="56145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4276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44440" y="5917320"/>
                <a:ext cx="17280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148880" y="5917320"/>
                <a:ext cx="173160" cy="172080"/>
              </a:xfrm>
              <a:prstGeom prst="ellipse">
                <a:avLst/>
              </a:prstGeom>
              <a:solidFill>
                <a:srgbClr val="65c5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5128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2" name=""/>
              <p:cNvCxnSpPr>
                <a:stCxn id="362" idx="4"/>
                <a:endCxn id="364" idx="0"/>
              </p:cNvCxnSpPr>
              <p:nvPr/>
            </p:nvCxnSpPr>
            <p:spPr>
              <a:xfrm flipH="1">
                <a:off x="6156000" y="5139360"/>
                <a:ext cx="60480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3" name=""/>
              <p:cNvCxnSpPr>
                <a:stCxn id="362" idx="4"/>
                <a:endCxn id="366" idx="0"/>
              </p:cNvCxnSpPr>
              <p:nvPr/>
            </p:nvCxnSpPr>
            <p:spPr>
              <a:xfrm>
                <a:off x="6760080" y="5139360"/>
                <a:ext cx="108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4" name=""/>
              <p:cNvCxnSpPr>
                <a:stCxn id="362" idx="4"/>
                <a:endCxn id="365" idx="0"/>
              </p:cNvCxnSpPr>
              <p:nvPr/>
            </p:nvCxnSpPr>
            <p:spPr>
              <a:xfrm>
                <a:off x="6760440" y="5139360"/>
                <a:ext cx="604800" cy="17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5" name=""/>
              <p:cNvCxnSpPr>
                <a:stCxn id="364" idx="4"/>
                <a:endCxn id="367" idx="0"/>
              </p:cNvCxnSpPr>
              <p:nvPr/>
            </p:nvCxnSpPr>
            <p:spPr>
              <a:xfrm>
                <a:off x="6156360" y="5484600"/>
                <a:ext cx="17352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6" name=""/>
              <p:cNvCxnSpPr>
                <a:stCxn id="364" idx="4"/>
                <a:endCxn id="363" idx="0"/>
              </p:cNvCxnSpPr>
              <p:nvPr/>
            </p:nvCxnSpPr>
            <p:spPr>
              <a:xfrm flipH="1">
                <a:off x="602604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7" name=""/>
              <p:cNvCxnSpPr>
                <a:stCxn id="367" idx="4"/>
                <a:endCxn id="368" idx="0"/>
              </p:cNvCxnSpPr>
              <p:nvPr/>
            </p:nvCxnSpPr>
            <p:spPr>
              <a:xfrm>
                <a:off x="632880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6544440" y="561456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03280" y="5614560"/>
                <a:ext cx="17316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278480" y="5614560"/>
                <a:ext cx="172800" cy="17208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803280" y="5917320"/>
                <a:ext cx="173160" cy="172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"/>
              <p:cNvCxnSpPr>
                <a:stCxn id="378" idx="4"/>
                <a:endCxn id="369" idx="0"/>
              </p:cNvCxnSpPr>
              <p:nvPr/>
            </p:nvCxnSpPr>
            <p:spPr>
              <a:xfrm>
                <a:off x="663084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"/>
              <p:cNvCxnSpPr>
                <a:stCxn id="379" idx="4"/>
                <a:endCxn id="381" idx="0"/>
              </p:cNvCxnSpPr>
              <p:nvPr/>
            </p:nvCxnSpPr>
            <p:spPr>
              <a:xfrm>
                <a:off x="6889680" y="5787000"/>
                <a:ext cx="10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"/>
              <p:cNvCxnSpPr>
                <a:stCxn id="380" idx="4"/>
                <a:endCxn id="370" idx="0"/>
              </p:cNvCxnSpPr>
              <p:nvPr/>
            </p:nvCxnSpPr>
            <p:spPr>
              <a:xfrm flipH="1">
                <a:off x="7234560" y="5787000"/>
                <a:ext cx="12996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5" name=""/>
              <p:cNvCxnSpPr>
                <a:stCxn id="380" idx="4"/>
                <a:endCxn id="371" idx="0"/>
              </p:cNvCxnSpPr>
              <p:nvPr/>
            </p:nvCxnSpPr>
            <p:spPr>
              <a:xfrm>
                <a:off x="7364520" y="5787000"/>
                <a:ext cx="173880" cy="13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6" name=""/>
              <p:cNvCxnSpPr>
                <a:stCxn id="366" idx="4"/>
                <a:endCxn id="378" idx="0"/>
              </p:cNvCxnSpPr>
              <p:nvPr/>
            </p:nvCxnSpPr>
            <p:spPr>
              <a:xfrm flipH="1">
                <a:off x="663048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7" name=""/>
              <p:cNvCxnSpPr>
                <a:stCxn id="366" idx="4"/>
                <a:endCxn id="379" idx="0"/>
              </p:cNvCxnSpPr>
              <p:nvPr/>
            </p:nvCxnSpPr>
            <p:spPr>
              <a:xfrm>
                <a:off x="6760080" y="5484600"/>
                <a:ext cx="12996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8" name=""/>
              <p:cNvCxnSpPr>
                <a:stCxn id="365" idx="4"/>
                <a:endCxn id="380" idx="0"/>
              </p:cNvCxnSpPr>
              <p:nvPr/>
            </p:nvCxnSpPr>
            <p:spPr>
              <a:xfrm>
                <a:off x="7364520" y="5484600"/>
                <a:ext cx="1080" cy="12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39C-7A7F-44C3-B49F-9FCB1D41B4E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probl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0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LOM standard and Dublin Core based on different Abstract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M data elements and DC properties/classes can not be used in combination in same information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rlier work on DC-LOM interoperability focused on R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LOM to RD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DC to R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generalisable to other DC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F92-CB6F-4AF4-BD63-D56845FDA9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826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proposed sol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40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 a LOM-DCAM map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M data elements” =&gt; “instances of DCAM components/constructs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pretation of LOM semantics in terms of DCA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a binding for LOM, but a transl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ssy in p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ne-way trans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751"/>
              </a:spcBef>
              <a:buClr>
                <a:srgbClr val="4961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ceptualise LOM as Entity-Relationship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268560">
              <a:lnSpc>
                <a:spcPct val="90000"/>
              </a:lnSpc>
              <a:spcBef>
                <a:spcPts val="601"/>
              </a:spcBef>
              <a:buClr>
                <a:srgbClr val="4961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uild on earlier work for LOM RDF bin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present E-R model in terms of DCAM constru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277920">
              <a:lnSpc>
                <a:spcPct val="90000"/>
              </a:lnSpc>
              <a:spcBef>
                <a:spcPts val="675"/>
              </a:spcBef>
              <a:buClr>
                <a:srgbClr val="49616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cify required terms, assign UR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TIS MDR SIG, B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CD4-DD97-4C1F-94B3-A079B792B0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53:43Z</dcterms:created>
  <dc:creator>Pete Johnston</dc:creator>
  <dc:description/>
  <dc:language>en-US</dc:language>
  <cp:lastModifiedBy>Pete Johnston</cp:lastModifiedBy>
  <dcterms:modified xsi:type="dcterms:W3CDTF">2006-06-29T13:00:01Z</dcterms:modified>
  <cp:revision>22</cp:revision>
  <dc:subject/>
  <dc:title>Update on work of Joint DCMI/IEEE LTSC Task Force</dc:title>
</cp:coreProperties>
</file>