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11920" cy="9944280"/>
          </a:xfrm>
          <a:custGeom>
            <a:avLst/>
            <a:gdLst>
              <a:gd name="textAreaLeft" fmla="*/ 360 w 6811920"/>
              <a:gd name="textAreaRight" fmla="*/ 6811560 w 6811920"/>
              <a:gd name="textAreaTop" fmla="*/ 360 h 9944280"/>
              <a:gd name="textAreaBottom" fmla="*/ 9943920 h 9944280"/>
            </a:gdLst>
            <a:ahLst/>
            <a:rect l="textAreaLeft" t="textAreaTop" r="textAreaRight" b="textAreaBottom"/>
            <a:pathLst>
              <a:path w="21600" h="31532">
                <a:moveTo>
                  <a:pt x="5" y="0"/>
                </a:moveTo>
                <a:arcTo wR="5" hR="5" stAng="16200000" swAng="-5400000"/>
                <a:lnTo>
                  <a:pt x="0" y="31527"/>
                </a:lnTo>
                <a:arcTo wR="5" hR="5" stAng="10800000" swAng="-5400000"/>
                <a:lnTo>
                  <a:pt x="21595" y="315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588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872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5884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F7796-2EA0-48E1-9325-574A8D1F3F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gator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gator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gator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gator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1280" y="39636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840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116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128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116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47640" y="531360"/>
            <a:ext cx="59025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1280" y="39636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840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4116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128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4116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7640" y="531360"/>
            <a:ext cx="59025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840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0920" y="404640"/>
            <a:ext cx="8642160" cy="1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66854" b="0"/>
          <a:stretch/>
        </p:blipFill>
        <p:spPr>
          <a:xfrm>
            <a:off x="395280" y="620640"/>
            <a:ext cx="792000" cy="771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419120" cy="458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50920" y="6453360"/>
            <a:ext cx="720072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6524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00360" y="6539040"/>
            <a:ext cx="3240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Dublin Core Conference 2007, Singa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47640" y="1268280"/>
            <a:ext cx="5904000" cy="18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404640"/>
            <a:ext cx="8642160" cy="1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419120" cy="45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6453360"/>
            <a:ext cx="720072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524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13336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im-forum.org/material/index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31640" y="3860640"/>
            <a:ext cx="6513480" cy="5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kim-forum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163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e Center for Interoperable Meta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3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opyright für dieses Dokuments liegt bei K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unautorisierte Übernahme des ganzen Beitrags oder v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tragsteilen ist  nicht zulässig. Für nicht-kommerzielle Ausbildung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cke kann der Beitrag kopiert werden, solange eindeutig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heberschaft kenntlich gemacht wird. Eine kommerzielle Nutz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Materialien ist hiermit ausdrücklich untersag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 info@lists.kim-forum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kim-forum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40000"/>
            <a:ext cx="8075880" cy="43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7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www.kim-foru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fanie Rueh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ristine Fro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te and University Library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rman National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ettin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e for Library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earch and Development Depart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ankfurt am 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ruehle@sub.uni-goettingen.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.frodl@d-nb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KIM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13480" cy="22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e Center for Interoperable Meta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ublin Core Conference 2007, Singap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hristine Frodl (German National Library)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efanie Ruehle (State and University Library, Goetti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3529080" cy="11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M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roject partner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edersaechsische Staats- und Universitaetsbibliothek (SUB) Goett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utsche Nationalbibliothek (DN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n cooperation with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aet W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chschule fuer Technik und Wirtschaft (FH-HTW) Ch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dgenoessische Technische Hochschule (ETH) Zue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funded b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utsche Forschungsgesell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roject schedule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October 2006 – 30 Sept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M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7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o improve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ility of metadata in German-languag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o suppor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velopment of interoperable metadata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o promote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velopment of interoperable metadata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o exchange knowledge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ational and international projects and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K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6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nformation platform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etadata users and metadata developers in science, governmental organisations and indu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ommunication platform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exchange with national and international projects and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ervice provide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ing and training off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isory service and support in the development of interoperable metadata forma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ffiliate of the Dublin Core Metadata Initiative (DCMI)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KIM as DCMI Affiliate for the German-speaking metadata community (Germany, Switzerland, Aust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39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nformation about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 international metadata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application inte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le design of meta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lin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7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5200" y="1440000"/>
            <a:ext cx="807552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Knowledge exchange with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 internation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national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 international metadata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ffiliation to the Dublin Core Commun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relationship between the German-speaking metadata community and the Dublin Cor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e with the Dublin Core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e with Dublin Core metadata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Tutorials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learning modules about metadata and interoperabil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, training and advance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ranslations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relevant English-language documents into 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: Dublin Core Metadata Element Set, Version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im-forum.org/material/index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KIM DINI Technology Watch Repor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sletter about up-to-date national and international as well as interdisciplinary developments of standards and standards work within the scope of digital information technology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lossar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-lingual (German-English) glossary with relevant terms on interoperability and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kim-forum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1622520"/>
            <a:ext cx="8075520" cy="44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ssler</dc:creator>
  <dc:description/>
  <dc:language>en-US</dc:language>
  <cp:lastModifiedBy>NLB</cp:lastModifiedBy>
  <dcterms:modified xsi:type="dcterms:W3CDTF">2007-08-30T03:16:39Z</dcterms:modified>
  <cp:revision>6</cp:revision>
  <dc:subject/>
  <dc:title>Folie 1</dc:title>
</cp:coreProperties>
</file>