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2675-2EE2-418E-93B0-14553CD536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AEDD-7A3C-4082-B4D0-86A078AB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7C3C-1374-4E41-A870-E8C56442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1E0C-3ECD-4348-84F5-82FA1CE01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56D62-FDB8-40CA-B507-D157EF4E9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DCD6-39B8-4459-BBC9-EF664044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680FA-3E68-427E-9C0F-7AB0878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E7268-BEE1-45AD-9821-A846434A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7CCD9-1C9E-4B40-81A3-D8A74DE8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7B780-9A70-4D55-8CE8-03EA1F41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F51B3-A637-45C2-9E9C-42016425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1ACB-0D5C-40C3-BD55-C49E6EB0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FE5EA-541A-45EE-8D71-42C3044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D7365-2F3A-4DDD-BDFE-F6283137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96C97-4095-4F7F-ACAD-7B4B5F60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970A1-72FE-4A9B-887F-0244F89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9168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83360" y="107460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9168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83360" y="3697560"/>
            <a:ext cx="2944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4F887-7506-4E31-861D-B30E524AB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9822-AA84-499E-BC41-6A20C49F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A09B-B4E8-45D6-933D-0CF6BC34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6907-0A04-4D49-8EEB-B5582E32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7051-7CFF-4031-AEA2-28526E44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BBCC-B893-42FB-A640-38C032BE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760" y="369756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2C99-159F-4318-B8AF-D56CBCE1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5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074600"/>
            <a:ext cx="44622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697560"/>
            <a:ext cx="9144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CA9B-8A14-4E4A-BF84-38CC7C2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973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971-EF85-499A-9B0E-4E58C288027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477468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6286680"/>
            <a:ext cx="4572000" cy="72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279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11562" b="0"/>
          <a:stretch/>
        </p:blipFill>
        <p:spPr>
          <a:xfrm>
            <a:off x="0" y="6291360"/>
            <a:ext cx="9144000" cy="709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0800000">
            <a:off x="0" y="6286680"/>
            <a:ext cx="5448240" cy="7300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0" y="6313320"/>
            <a:ext cx="4572000" cy="723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127320" y="6319800"/>
            <a:ext cx="60166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0" r="11562" b="0"/>
          <a:stretch/>
        </p:blipFill>
        <p:spPr>
          <a:xfrm>
            <a:off x="0" y="6291360"/>
            <a:ext cx="9144000" cy="709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17520"/>
            <a:ext cx="7772400" cy="146988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77468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9973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F3C3-2B8A-4481-9D39-544C1E10D01C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6286680"/>
            <a:ext cx="5448240" cy="7300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286680"/>
            <a:ext cx="4572000" cy="72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9144000" cy="279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0" y="3593880"/>
            <a:ext cx="9144000" cy="279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286760" y="0"/>
            <a:ext cx="1857240" cy="1190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4600" y="2117520"/>
            <a:ext cx="8642520" cy="146988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Using DC Library Application Profi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or The European Librar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28760" y="3886200"/>
            <a:ext cx="844704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ally Chamb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The European Library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Metadata Working Group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3127320" y="6326280"/>
            <a:ext cx="6016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upporting partner librarie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etadata Regi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entral storage place for all the terms used in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Guidance on how particular terms are used in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Mappings from local metadata formats (e.g. MARC 21, UNIMARC) to TEL Application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eparing your metadata” and “Describing your collections”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RecordID in Metadata Registr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966960"/>
            <a:ext cx="852804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Handbook: Preparing my metadat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Handbook: Describing my collection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93492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Further inform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rebuchet MS"/>
              </a:rPr>
              <a:t>The Europea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33"/>
                </a:solidFill>
                <a:uFillTx/>
                <a:latin typeface="Trebuchet MS"/>
              </a:rPr>
              <a:t>www.theeuropeanlibrary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rebuchet MS"/>
              </a:rPr>
              <a:t>The European Library Metadata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rebuchet MS"/>
              </a:rPr>
              <a:t>www.theeuropeanlibrary.org/metadataregist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The European Library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rebuchet MS"/>
              </a:rPr>
              <a:t>www.theeuropeanlibrary.org/handboo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The Metadata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rebuchet MS"/>
              </a:rPr>
              <a:t>metadata@theeuropeanlibrary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86760" y="5068800"/>
            <a:ext cx="185724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The European Librar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rebuchet MS"/>
              </a:rPr>
              <a:t>www.The EuropeanLibrary.org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launched March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ingle access point to search the digital and non-digital collections of the national libraries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290 collections (171 searchab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30 of the 47 European National Libraries collections searchable via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he European Library accesses the collection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Federated searching (dynamic searc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Harvesting via OAI-PMH into a central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ocal metadata records mapped to The European Library Application Profile for objects for display in The Europea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Record in the British Librar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2840" y="1001880"/>
            <a:ext cx="74296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rebuchet MS"/>
              </a:rPr>
              <a:t>(Same) record in The European Libr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rebuchet MS"/>
              </a:rPr>
              <a:t>Local (MARC21) record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62160" y="917640"/>
            <a:ext cx="66214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rebuchet MS"/>
              </a:rPr>
              <a:t>Record in TEL AP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44640" y="946080"/>
            <a:ext cx="7170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TEL Application Profi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The European Library Application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Collection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Use DC Library Application Profile terms with some “TEL” metadata terms ad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Recor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Thumb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OAIRecor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Record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Recor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TEL Term: RecordId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7460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Type: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Qualified name: tel:recor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Source Definition: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The unique identification of the record in the sourc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Guidelines: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The recordId is used for referencing the original record, linking by reference and for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administrative purposes. In some cases it will allow records to be indexed without storing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them centrally. It can be used in OpenURL for use by local services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Functionality: “Available in Libr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gradFill rotWithShape="0">
            <a:gsLst>
              <a:gs pos="0">
                <a:srgbClr val="6d0015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Available in Library” functionalit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521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3000" y="1014480"/>
            <a:ext cx="7399440" cy="482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4880" y="3476520"/>
            <a:ext cx="8475840" cy="149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lt;</a:t>
            </a:r>
            <a:r>
              <a:rPr b="0" lang="en-US" sz="2000" spc="-1" strike="noStrike">
                <a:solidFill>
                  <a:srgbClr val="b80023"/>
                </a:solidFill>
                <a:latin typeface="Trebuchet MS"/>
              </a:rPr>
              <a:t>tel:recordId xsi:type="dcterms:URI"</a:t>
            </a: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gt;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http://catalogue.bl.uk/F/?func=direct-docset&amp;doc_number=010394769&amp;l_base=BLL01&amp;from=TELgatewa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rebuchet MS"/>
              </a:rPr>
              <a:t>tel:recordId</a:t>
            </a:r>
            <a:r>
              <a:rPr b="0" lang="en-US" sz="2000" spc="-1" strike="noStrike">
                <a:solidFill>
                  <a:srgbClr val="6699ff"/>
                </a:solidFill>
                <a:latin typeface="Trebuchet MS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2:21:44Z</dcterms:created>
  <dc:creator>EME010</dc:creator>
  <dc:description/>
  <dc:language>en-US</dc:language>
  <cp:lastModifiedBy>Administrator</cp:lastModifiedBy>
  <dcterms:modified xsi:type="dcterms:W3CDTF">2007-10-04T12:42:00Z</dcterms:modified>
  <cp:revision>600</cp:revision>
  <dc:subject/>
  <dc:title>Slide 1</dc:title>
</cp:coreProperties>
</file>