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1B05-C95B-44BD-B113-299D5F93A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AC3B-4E3A-47A0-BB5D-A671D5D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AA0D-6281-4DF8-B864-7A512C8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0883-8384-4D09-8E41-4FB81D574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F42A9-C658-4D8D-822D-1CE3DDE57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594A5-DA2E-43AA-B450-AF4AEBE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29046-DEC6-492C-9EF1-B678731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1DB0D-CCD4-4D2E-9586-2FDF517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52E8D-098D-431A-9DB1-044E4913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ADF0A-A0C4-4B8C-99E9-8394D14D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CCB64-526B-4D7F-A490-7C3FD6F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49EE-7159-4883-9444-DA0AF521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80612-31B8-44CE-B384-28E90AC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74C28-1068-41BE-B162-0458DC3D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C0443-C095-4441-9D06-61859DF0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BEB71-3DAA-4B6B-9E58-6CFA9C3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9168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8336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9168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8336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CEBE9-905C-4FFF-9C22-D266D80AFE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81C6-F6F7-4103-8147-1E09676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301A-FCD6-4971-B46F-22E3101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6C7D-A375-4C2D-A4F4-85FA6395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4B0D-AFA8-40D2-860D-BCD927DA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BB12-4FAB-4FC1-A56C-55D78E2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51C0-2E8B-44A7-AF36-0B27BDB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0162-8E08-4F49-94DB-5408DA1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973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1CA-6960-415F-8261-5BF3194DBF11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477468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286680"/>
            <a:ext cx="4572000" cy="72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11562" b="0"/>
          <a:stretch/>
        </p:blipFill>
        <p:spPr>
          <a:xfrm>
            <a:off x="0" y="6291360"/>
            <a:ext cx="9144000" cy="709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0800000">
            <a:off x="0" y="6286680"/>
            <a:ext cx="5448240" cy="7300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0" y="6313320"/>
            <a:ext cx="4572000" cy="723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127320" y="6319800"/>
            <a:ext cx="60166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11562" b="0"/>
          <a:stretch/>
        </p:blipFill>
        <p:spPr>
          <a:xfrm>
            <a:off x="0" y="6291360"/>
            <a:ext cx="9144000" cy="709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17520"/>
            <a:ext cx="7772400" cy="146988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77468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9973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1B0F-5A10-4731-A3FA-5EC3C4D204E4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6286680"/>
            <a:ext cx="5448240" cy="7300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286680"/>
            <a:ext cx="4572000" cy="72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0" y="359388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286760" y="0"/>
            <a:ext cx="1857240" cy="1190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4600" y="2117520"/>
            <a:ext cx="8642520" cy="146988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sing DC Library Application Profi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or The European Librar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28760" y="3886200"/>
            <a:ext cx="844704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ally Chamb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European Library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Metadata Working Group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3127320" y="6326280"/>
            <a:ext cx="6016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upporting partner librari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adata Regi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entral storage place for all the terms used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Guidance on how particular terms are used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Mappings from local metadata formats (e.g. MARC 21, UNIMARC) to TEL Application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eparing your metadata” and “Describing your collections”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RecordID in Metadata Regist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966960"/>
            <a:ext cx="852804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Handbook: Preparing my metadat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Handbook: Describing my collection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Further inform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rebuchet MS"/>
              </a:rPr>
              <a:t>The Europea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33"/>
                </a:solidFill>
                <a:uFillTx/>
                <a:latin typeface="Trebuchet MS"/>
              </a:rPr>
              <a:t>www.theeuropeanlibrar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rebuchet MS"/>
              </a:rPr>
              <a:t>The European Library Metadata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rebuchet MS"/>
              </a:rPr>
              <a:t>www.theeuropeanlibrary.org/metadataregist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European Library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rebuchet MS"/>
              </a:rPr>
              <a:t>www.theeuropeanlibrary.org/handboo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Metadata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metadata@theeuropeanlibrar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86760" y="5068800"/>
            <a:ext cx="185724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he European Libra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www.The EuropeanLibrary.org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launched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ingle access point to search the digital and non-digital collections of the national libraries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290 collections (171 searchab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30 of the 47 European National Libraries collections searchable via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he European Library accesses the collection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Federated searching (dynamic sear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Harvesting via OAI-PMH into a central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ocal metadata records mapped to The European Library Application Profile for objects for display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Record in the British Libra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2840" y="1001880"/>
            <a:ext cx="74296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(Same) record in The European Libr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Local (MARC21) record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62160" y="917640"/>
            <a:ext cx="66214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Record in TEL AP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44640" y="946080"/>
            <a:ext cx="7170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EL Application Profi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European Library Application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Collection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Use DC Library Application Profile terms with some “TEL” metadata terms ad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humb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OAI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EL Term: RecordI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ype: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Qualified name: tel: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Source Definition: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 unique identification of the record in the sourc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Guidelines: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 recordId is used for referencing the original record, linking by reference and for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administrative purposes. In some cases it will allow records to be indexed without storing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m centrally. It can be used in OpenURL for use by local services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Functionality: “Available in Libr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Available in Library” functionalit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21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3000" y="1014480"/>
            <a:ext cx="7399440" cy="482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4880" y="3476520"/>
            <a:ext cx="8475840" cy="149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lt;</a:t>
            </a:r>
            <a:r>
              <a:rPr b="0" lang="en-US" sz="2000" spc="-1" strike="noStrike">
                <a:solidFill>
                  <a:srgbClr val="b80023"/>
                </a:solidFill>
                <a:latin typeface="Trebuchet MS"/>
              </a:rPr>
              <a:t>tel:recordId xsi:type="dcterms:URI"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gt;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ttp://catalogue.bl.uk/F/?func=direct-docset&amp;doc_number=010394769&amp;l_base=BLL01&amp;from=TELgatewa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rebuchet MS"/>
              </a:rPr>
              <a:t>tel:recordId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2:21:44Z</dcterms:created>
  <dc:creator>EME010</dc:creator>
  <dc:description/>
  <dc:language>en-US</dc:language>
  <cp:lastModifiedBy>Administrator</cp:lastModifiedBy>
  <dcterms:modified xsi:type="dcterms:W3CDTF">2007-10-04T12:42:00Z</dcterms:modified>
  <cp:revision>600</cp:revision>
  <dc:subject/>
  <dc:title>Slide 1</dc:title>
</cp:coreProperties>
</file>